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notesSlides/_rels/notesSlide11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7.png" ContentType="image/png"/>
  <Override PartName="/ppt/media/image3.wmf" ContentType="image/x-wmf"/>
  <Override PartName="/ppt/media/image2.wmf" ContentType="image/x-wmf"/>
  <Override PartName="/ppt/media/image10.png" ContentType="image/png"/>
  <Override PartName="/ppt/media/image5.png" ContentType="image/png"/>
  <Override PartName="/ppt/media/image26.png" ContentType="image/png"/>
  <Override PartName="/ppt/media/image14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notesMasterIdLst>
    <p:notesMasterId r:id="rId20"/>
  </p:notesMasterIdLst>
  <p:sldIdLst>
    <p:sldId id="256" r:id="rId21"/>
    <p:sldId id="257" r:id="rId22"/>
    <p:sldId id="258" r:id="rId23"/>
    <p:sldId id="259" r:id="rId24"/>
    <p:sldId id="260" r:id="rId25"/>
    <p:sldId id="261" r:id="rId26"/>
    <p:sldId id="262" r:id="rId27"/>
    <p:sldId id="263" r:id="rId28"/>
    <p:sldId id="264" r:id="rId29"/>
    <p:sldId id="265" r:id="rId30"/>
    <p:sldId id="266" r:id="rId31"/>
    <p:sldId id="267" r:id="rId32"/>
    <p:sldId id="268" r:id="rId33"/>
    <p:sldId id="269" r:id="rId34"/>
    <p:sldId id="270" r:id="rId35"/>
    <p:sldId id="271" r:id="rId36"/>
    <p:sldId id="272" r:id="rId37"/>
    <p:sldId id="273" r:id="rId38"/>
    <p:sldId id="274" r:id="rId39"/>
    <p:sldId id="275" r:id="rId40"/>
    <p:sldId id="276" r:id="rId41"/>
  </p:sldIdLst>
  <p:sldSz cx="9144000" cy="6858000"/>
  <p:notesSz cx="6800850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notesMaster" Target="notesMasters/notesMaster1.xml"/><Relationship Id="rId21" Type="http://schemas.openxmlformats.org/officeDocument/2006/relationships/slide" Target="slides/slide1.xml"/><Relationship Id="rId22" Type="http://schemas.openxmlformats.org/officeDocument/2006/relationships/slide" Target="slides/slide2.xml"/><Relationship Id="rId23" Type="http://schemas.openxmlformats.org/officeDocument/2006/relationships/slide" Target="slides/slide3.xml"/><Relationship Id="rId24" Type="http://schemas.openxmlformats.org/officeDocument/2006/relationships/slide" Target="slides/slide4.xml"/><Relationship Id="rId25" Type="http://schemas.openxmlformats.org/officeDocument/2006/relationships/slide" Target="slides/slide5.xml"/><Relationship Id="rId26" Type="http://schemas.openxmlformats.org/officeDocument/2006/relationships/slide" Target="slides/slide6.xml"/><Relationship Id="rId27" Type="http://schemas.openxmlformats.org/officeDocument/2006/relationships/slide" Target="slides/slide7.xml"/><Relationship Id="rId28" Type="http://schemas.openxmlformats.org/officeDocument/2006/relationships/slide" Target="slides/slide8.xml"/><Relationship Id="rId29" Type="http://schemas.openxmlformats.org/officeDocument/2006/relationships/slide" Target="slides/slide9.xml"/><Relationship Id="rId30" Type="http://schemas.openxmlformats.org/officeDocument/2006/relationships/slide" Target="slides/slide10.xml"/><Relationship Id="rId31" Type="http://schemas.openxmlformats.org/officeDocument/2006/relationships/slide" Target="slides/slide11.xml"/><Relationship Id="rId32" Type="http://schemas.openxmlformats.org/officeDocument/2006/relationships/slide" Target="slides/slide12.xml"/><Relationship Id="rId33" Type="http://schemas.openxmlformats.org/officeDocument/2006/relationships/slide" Target="slides/slide13.xml"/><Relationship Id="rId34" Type="http://schemas.openxmlformats.org/officeDocument/2006/relationships/slide" Target="slides/slide14.xml"/><Relationship Id="rId35" Type="http://schemas.openxmlformats.org/officeDocument/2006/relationships/slide" Target="slides/slide15.xml"/><Relationship Id="rId36" Type="http://schemas.openxmlformats.org/officeDocument/2006/relationships/slide" Target="slides/slide16.xml"/><Relationship Id="rId37" Type="http://schemas.openxmlformats.org/officeDocument/2006/relationships/slide" Target="slides/slide17.xml"/><Relationship Id="rId38" Type="http://schemas.openxmlformats.org/officeDocument/2006/relationships/slide" Target="slides/slide18.xml"/><Relationship Id="rId39" Type="http://schemas.openxmlformats.org/officeDocument/2006/relationships/slide" Target="slides/slide19.xml"/><Relationship Id="rId40" Type="http://schemas.openxmlformats.org/officeDocument/2006/relationships/slide" Target="slides/slide20.xml"/><Relationship Id="rId41" Type="http://schemas.openxmlformats.org/officeDocument/2006/relationships/slide" Target="slides/slide21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"/>
          <p:cNvSpPr/>
          <p:nvPr/>
        </p:nvSpPr>
        <p:spPr>
          <a:xfrm>
            <a:off x="0" y="0"/>
            <a:ext cx="68004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 type="dt" idx="18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lv-LV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40320" cy="446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5"/>
          <p:cNvSpPr>
            <a:spLocks noGrp="1"/>
          </p:cNvSpPr>
          <p:nvPr>
            <p:ph type="ftr" idx="19"/>
          </p:nvPr>
        </p:nvSpPr>
        <p:spPr>
          <a:xfrm>
            <a:off x="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PlaceHolder 6"/>
          <p:cNvSpPr>
            <a:spLocks noGrp="1"/>
          </p:cNvSpPr>
          <p:nvPr>
            <p:ph type="sldNum" idx="20"/>
          </p:nvPr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lv-LV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87A36F5C-0A48-4D38-BDC3-3E1D69C46D43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825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4032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Slide Number Placeholder 3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8066A2EA-8E03-4E2F-8480-8F3FEB5A8659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822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4032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Slide Number Placeholder 3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8406CE00-371D-4A05-A860-9F8EC8AD84DB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5A759-DAE6-49C8-870E-CD4A7D31F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14E73-81A7-40C8-ADB6-4EBA2DE1E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FCBA4E4-C9EE-47C1-90A5-3B87590684CA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D9AAC4E-65D8-4864-89D9-E20F4F8F1739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603AEDB-B33D-42AB-BD88-1545B4BEB866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0718C09-DDEA-4A06-B8B8-8676C4AE8275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F3A5CB5-4934-4DD4-86CE-C9F376217157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95C99F1-AFC9-42BF-AD14-2DC8C7787360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04A724D-7822-424F-8C1B-300EC2353FA5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20A9B70-0D0E-4291-882A-8C8C238B4975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9283841-A33D-49AF-A210-4549E8D274A8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9047394-1F32-4E93-A58E-47F5274A54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EACB1-1BCC-40C8-B8FE-0D10B1F06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840540F-5185-4474-86AC-81D228455FD7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37D1D4B-BD02-44B9-8CF6-87D8BFB43B37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F9C4C1D-2319-445B-BB27-3AE13A4129D9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5FC2B71-3E68-4AE9-8218-B106C82A7DD6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3D42CB8-691F-437B-A0D7-9531125D5314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4E20A6B-1DC5-48AF-BD23-A749C6781FF3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76CE211-4F13-4653-98B7-2266FFC0A4B4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3C87369-4300-43B3-A663-1FB284E31856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EBD7766-4825-430F-A7B1-7F408766D0E1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1FA9B08-1088-48E0-B247-093D3D3AE2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58525-74BE-4A21-953B-017A6BC00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AAB6474-FBBD-4C57-B8BC-1475A12571E8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8E9B28-228B-4150-A541-1DD9A8966CA7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DCCBF0-71F8-4B20-8797-EA56F2700167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9AEAF7-C74F-46DE-8D0A-18E742AAE663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A88D27-454D-4687-BE93-CC44DA849C4D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D73976-66EF-4A49-94CF-1A95FA9EB4B8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E7B811-8A86-4891-BBE3-E4977132C31F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412B63-0F64-499C-BB08-E499825CD9D9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312CBF-5C1E-4854-9DD0-181A812AB20E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7DDABC-5F7E-402A-B42E-7037486AD3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462F07-0ED4-4341-BEC3-BBDB950798DD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4ACF3C-EA9A-4C1C-9205-1BE05C772471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DF5218-2991-43BD-8BD1-512DC2E2D897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DE3C938-A097-4EED-991E-05E408751F4A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2B85859-CB40-4106-A918-B0E60B64E9BE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E9652DC-071F-496B-A80F-C2BAD6E31D4E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F728795-3FE9-4C4C-8D35-FBDF44504E2B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0A7152C-60E6-4E79-9100-3E7F1E7EE4D0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87E0628-A1B9-4BF2-9AA5-808A33A8DF39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79DE9A9-D964-428A-9587-F093CCEC475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DC78824-624A-49A4-933D-6F6F5F99E6FD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0FB1B70-E684-426E-84A3-FB2FE59B8ECD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9ED8260-D48C-4B48-99EB-551DADD285F9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9EBBE4E-47DA-4932-97AD-BDB99229F1E1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DC0F2F5-85C9-4238-B6C8-D254E5443A39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B95FE53-320A-4EC4-9F79-32DB4DDBCDDB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91F9234-7B41-4ABA-9F2F-94FA7527AF79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7193053-F89D-4D8E-872B-A832245EC69A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91DB3FD-D55B-49AC-A45B-B1470F45656A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5C134DF-6604-43E2-B9D3-E3672645FF9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C0E6FEF-E693-4B06-8778-1BCF3645872E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B545105-583D-4991-9BF9-EB1D509D84FA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F555CCA-0097-4F1C-B04C-242C396D82AF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83DC8A0-5A93-4ACB-BC35-F3E00753B8CC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7C05C70-785F-42B0-B669-045371A50878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1474F62-BFDA-4A1E-951D-EE6F27905DDB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6E91529-0919-47ED-8E1D-4F5A73EBE3D2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CFAEE0-D890-410D-9186-B790B446FF8C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7DDC12-BF9A-43BC-8F81-AE09B4240CC5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637842-AEA3-450F-8227-857E5A203C7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0441E5-1F3C-48B8-8C6A-18DA8FF4872D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7C2119-C1D5-4053-9E27-CEAD82B2307A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B60982-306F-4164-8710-9B83A5712430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FFE300-5140-4A18-A5F4-964DC1AC2439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459F01-03C2-42BD-9480-2F182537301B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B2DD40-C6E1-42FE-A8BD-76238DF5D51A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E98555-E47F-473C-9DE7-5583226D5EBE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79FA06-6B17-4C6E-BF4F-B3A7701C4F4C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2C18BC-8C15-4637-8191-58CB276759D7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A238BBC-A65D-4D8A-88BA-1A45ED9B138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AC76208-F6F8-4E21-B764-98C709C9FCAC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79A2BC1-BFD2-4250-BFE7-E5465B8A3263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FC86881-6F06-48C3-9530-E8480E78ED29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5728420-A8D8-4244-9EC1-ADECA723E5A8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67A0487-E79B-4B3D-A409-EF513A0FE2A2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BD7F832-FBA1-4CCD-A4F2-699BEA1C974A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E5F42DE-EF9E-4410-9C92-D593A832AA6C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408455D-3C49-4A7A-A05A-213CF7AA2958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0728F29-FEA9-4EB1-890A-D073FD02F30E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B73212A-62CE-49EB-9FA9-A62C6A93F9F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F437914-F671-456A-B4F9-B1A6C7DA656C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E638814-0B6F-45FE-9435-55C3A252DD41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79FAF65-EF0A-4232-B5DB-AB7578B78222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77EC18C-379B-4819-A2C7-8489A997F09A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680A88F-5B8A-4C76-B9A9-3A0B725D4F2C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4EFAA7C-3C3D-4A6B-8D66-92E7EC665F7E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4650BAA-F8BB-4FB9-A200-92865CFB536F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B506697-FD18-4B80-A6BF-D3B140AAE843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5D645DD-F009-4ACB-91BC-2E9785A38152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DA49C15-7EC7-414C-B537-C859D51D90E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7569757-C024-49B8-A072-40D020CD091D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2FD944C-57B3-460C-B701-6030EC45AAC0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1FA40A6-AFBB-4DD7-B93B-18FA348AD3C2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327C3-3FD2-406F-B54B-EC6814F26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2F617A-D694-40E7-8124-047DDA12243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EA6029-E4CB-489B-B35E-BB29605DF3A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642AE0-63E8-4E54-B302-839173F181C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2C5F98-7A66-4B5B-809C-670375D6119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E7EC92-9D3C-4601-8DC6-F7EEA6DB896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20282-D63A-47CE-AC28-D2BB424E9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00D91D-4269-445D-864B-8A87CBD8A3A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F4CCFD-40F1-42A3-B685-C0D7FDD7109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1878EC-0702-469E-8009-3F5ADB179C9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81E589-7406-495D-9C64-8ECE135C3D1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234D76-149D-429B-9128-AF8C39832C1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E58D3F-B240-4577-B3DD-9B57316DA1E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706625-0FB0-4490-BCA0-A25CFAD77F51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040201-A8EA-47D5-985D-C7F01BF7D5D9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9388C2-6CF4-4ED5-87FE-28C0E0AE4BAC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8D237E-EA03-4E1D-98A1-D499B66F34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62F92-E724-40DF-8543-23FC19BDF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87852F-97CE-43E8-A7EC-14B2591D46FE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53775A-676C-4436-9C24-276DA091738B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3EFF3F-9990-40DF-8FCA-123E07827FC2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492CD0-D42E-44B4-8170-E7ABFF859CC0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D19E8E-BDE2-4E00-9A80-5162DD9DC9E7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0170FE-15BF-480D-A792-8EAF4134BD4D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67E0F8-2A0D-414D-835E-FA9AB656E0F8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7D6ACD-FF4A-4894-945E-43165C984363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DC1D13-D758-40D6-AF42-0B1298845F97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040F5-D331-4198-962A-9A4AE22007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E9A5B-66D4-4FD3-AC43-FFF2272DA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119E0-E0D0-4461-BB9A-1EB025366298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B6987-A631-4292-9EF6-EB67918B0EFB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5F950-F108-446D-BB3D-5DBE6D438C3A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CA66F-7296-4ECE-9072-E06DBD3F834B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75D5C-FA09-4139-8F3D-6A872F3F421A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68ABC-C831-43FE-8EB5-84C63F58BA7E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596E6-C2C5-483A-99D3-2DDD4B01A696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32D4E-1F02-4CFF-B77A-FEEAFF0692F6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3FFC1-23FA-47A4-8A06-47E3953FCBBD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06534-0EC8-45AA-B435-C2A08F12A2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88385-0D74-48DB-87DC-FB79B507F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3D120-AAC3-4D03-AD04-5C616FB74E64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9EA8997-757F-4479-9B27-74943207B8E9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085E5FA-2A81-42CB-9E09-671C89F84EDA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29D4F33-FBC8-46B1-8E4E-3CEF6194AFC6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AFDAB66-6481-44CC-8E1E-5E12257C1666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25727D2-09F2-49C9-9828-C1D3F1682145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22E8571-2A96-4045-AE9E-0BF32C563FC4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F50F3BD-9980-46A1-8D39-0E31FE581CA4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D393E1F-156E-4F49-9BCA-0230242575CB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C915543-8DD7-46C7-A266-F59D85CA9E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E17E1-42A5-4FD6-8429-134704B06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76B5A02-A593-4F86-A5A7-BD3C461FB638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C73D192-5713-41A5-9512-FA6D6F1587B0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757D4E6-23C8-4C7E-89BC-F8CEF80D82A4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B3496C5-F634-4876-8BC8-155D18950805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9E39238-FD98-48C7-A9F8-4A2608496B2A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1950A79-1E9D-4DE2-B069-77AD8630A0BB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77B707-006C-4287-B1D4-B5A2BF3D3070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38FAFF-BE82-4991-AFE9-2C1541F6AE74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ACD6C3B-6DD4-408E-B410-35DA4E3DC8B2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109F280-92F1-4C05-A3BB-58888CD72F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29718-57A4-46D3-BC40-92EF5BD6C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C43E79A-8C19-488E-B9E5-44BBE9FDE69E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75F82C7-D5AE-4E89-B876-B3942578C993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3F9D74-63CF-43CE-B4DC-9141CB5C1F87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B4A00B8-44FD-47A0-8CAA-79E0CF928B53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983886C-79BB-40FB-A55B-6FD174A3AAE1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3D9615-1439-4FED-B748-B6749C2EC9B1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37C0AF-4AED-4855-980F-EC253FFA4299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C74463-D563-4555-89D8-D706DCFD579A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4767C5-98E3-4C7B-9BBF-50D503398293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2600A4-9131-4D6C-9F1E-E4BC197145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CC601-ECF3-44C0-9FC5-27E8B7EE1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BD1078-2536-4341-882C-DA95B4982464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10D866-2F03-4026-982E-92DB68056830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2C2444-CFF7-4298-84A3-26866E68BDE1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6ECD5C-9DC1-42D2-B055-79671382D2BA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8EC4D6-79CC-4ADC-A147-CC43A92639C5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2905D1-6204-4211-96EB-768E854A5359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5CD90E-26B9-4D8A-95C2-82C5EF251AE7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CEE622E-67C1-44F1-8552-3804ED5D18CA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70DC53B-50B0-4847-B1DD-42238CAAA26E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0716F88-1DE8-400E-A881-12C8D926B0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C87B3BFF-E6EE-4876-987C-328D3B74DCD1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A46D34AB-DD1C-462B-AADA-48BAC78ADFD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Num" idx="11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E7E1651C-27FE-4346-856D-48C6494694CA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3" descr=""/>
          <p:cNvPicPr/>
          <p:nvPr/>
        </p:nvPicPr>
        <p:blipFill>
          <a:blip r:embed="rId3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sldNum" idx="12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51080F69-7BDD-4B06-973D-BD1C6CE87EF5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sldNum" idx="13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A9143E3A-796D-42B7-BDBD-C753AD71113B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0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491" name="Picture 7" descr=""/>
          <p:cNvPicPr/>
          <p:nvPr/>
        </p:nvPicPr>
        <p:blipFill>
          <a:blip r:embed="rId3"/>
          <a:stretch/>
        </p:blipFill>
        <p:spPr>
          <a:xfrm>
            <a:off x="412920" y="6141960"/>
            <a:ext cx="1712880" cy="487440"/>
          </a:xfrm>
          <a:prstGeom prst="rect">
            <a:avLst/>
          </a:prstGeom>
          <a:ln w="0">
            <a:noFill/>
          </a:ln>
        </p:spPr>
      </p:pic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sldNum" idx="14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3CAF3600-FEEE-416F-8E87-ED42128EDFD9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1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 type="sldNum" idx="15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77FA2255-F270-45B3-8E9F-F14F583D08E8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1" name="Picture 6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572" name="Picture 7" descr=""/>
          <p:cNvPicPr/>
          <p:nvPr/>
        </p:nvPicPr>
        <p:blipFill>
          <a:blip r:embed="rId3"/>
          <a:stretch/>
        </p:blipFill>
        <p:spPr>
          <a:xfrm>
            <a:off x="412920" y="6141960"/>
            <a:ext cx="1712880" cy="487440"/>
          </a:xfrm>
          <a:prstGeom prst="rect">
            <a:avLst/>
          </a:prstGeom>
          <a:ln w="0">
            <a:noFill/>
          </a:ln>
        </p:spPr>
      </p:pic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 type="sldNum" idx="16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34516844-7EF3-4109-AD0A-2AF79AC84BA9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2" name="Picture 6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 type="sldNum" idx="17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FF0E08BA-30F2-40E9-9708-6A26289FAF44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2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653" name="Picture 7" descr=""/>
          <p:cNvPicPr/>
          <p:nvPr/>
        </p:nvPicPr>
        <p:blipFill>
          <a:blip r:embed="rId3"/>
          <a:stretch/>
        </p:blipFill>
        <p:spPr>
          <a:xfrm>
            <a:off x="412920" y="6141960"/>
            <a:ext cx="1712880" cy="487440"/>
          </a:xfrm>
          <a:prstGeom prst="rect">
            <a:avLst/>
          </a:prstGeom>
          <a:ln w="0">
            <a:noFill/>
          </a:ln>
        </p:spPr>
      </p:pic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2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8" descr=""/>
          <p:cNvPicPr/>
          <p:nvPr/>
        </p:nvPicPr>
        <p:blipFill>
          <a:blip r:embed="rId2"/>
          <a:stretch/>
        </p:blipFill>
        <p:spPr>
          <a:xfrm>
            <a:off x="2563920" y="6629400"/>
            <a:ext cx="6586560" cy="2462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9" descr=""/>
          <p:cNvPicPr/>
          <p:nvPr/>
        </p:nvPicPr>
        <p:blipFill>
          <a:blip r:embed="rId3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8" descr=""/>
          <p:cNvPicPr/>
          <p:nvPr/>
        </p:nvPicPr>
        <p:blipFill>
          <a:blip r:embed="rId4"/>
          <a:stretch/>
        </p:blipFill>
        <p:spPr>
          <a:xfrm>
            <a:off x="419040" y="6141960"/>
            <a:ext cx="1714680" cy="487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3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4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A4A523D1-1400-4436-AFD5-9DFE8A44359C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3" descr=""/>
          <p:cNvPicPr/>
          <p:nvPr/>
        </p:nvPicPr>
        <p:blipFill>
          <a:blip r:embed="rId3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5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566FBC26-B633-449A-9F0A-3E309A4A8959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3" descr=""/>
          <p:cNvPicPr/>
          <p:nvPr/>
        </p:nvPicPr>
        <p:blipFill>
          <a:blip r:embed="rId3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Num" idx="6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874CB058-2AEE-401A-87FE-1CEF23A28969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3" descr=""/>
          <p:cNvPicPr/>
          <p:nvPr/>
        </p:nvPicPr>
        <p:blipFill>
          <a:blip r:embed="rId3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sldNum" idx="7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A18F5597-589F-436A-85EE-C40A5C231442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6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3" descr=""/>
          <p:cNvPicPr/>
          <p:nvPr/>
        </p:nvPicPr>
        <p:blipFill>
          <a:blip r:embed="rId3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8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465F7A84-BA89-4E0F-8D8B-70DA86565F94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6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3" descr=""/>
          <p:cNvPicPr/>
          <p:nvPr/>
        </p:nvPicPr>
        <p:blipFill>
          <a:blip r:embed="rId3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sldNum" idx="9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E4499123-9B43-4A61-AEEF-038652B412EC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3" descr=""/>
          <p:cNvPicPr/>
          <p:nvPr/>
        </p:nvPicPr>
        <p:blipFill>
          <a:blip r:embed="rId3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sldNum" idx="10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92255C47-F815-4B9F-9DA8-5A1CD86DF0FE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2141640" y="991800"/>
            <a:ext cx="6316560" cy="12603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Calibri"/>
                <a:ea typeface="Verdana"/>
              </a:rPr>
              <a:t>Projektu pieteikumu sagatavošanas seminārs </a:t>
            </a:r>
            <a:br>
              <a:rPr sz="2800"/>
            </a:br>
            <a:r>
              <a:rPr b="1" lang="lv-LV" sz="2800" spc="-1" strike="noStrike">
                <a:solidFill>
                  <a:srgbClr val="0b7d91"/>
                </a:solidFill>
                <a:latin typeface="Calibri"/>
                <a:ea typeface="Verdana"/>
              </a:rPr>
              <a:t>Sagatavošanas vizītēm </a:t>
            </a:r>
            <a:br>
              <a:rPr sz="26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1865160" y="2887560"/>
            <a:ext cx="6818400" cy="12016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3000" spc="-1" strike="noStrike">
                <a:solidFill>
                  <a:srgbClr val="0b7d91"/>
                </a:solidFill>
                <a:latin typeface="Calibri"/>
                <a:ea typeface="Verdana"/>
              </a:rPr>
              <a:t>Sagatavošanas vizīšu pieteikumu sagatavošana un iesniegšana Espresso sistēmā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2238480" y="4300560"/>
            <a:ext cx="5829120" cy="6667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2060"/>
                </a:solidFill>
                <a:latin typeface="Verdana"/>
                <a:ea typeface="Verdana"/>
              </a:rPr>
              <a:t>2024.gada 5. septembrī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1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742" name="Text Placeholder 3"/>
          <p:cNvSpPr/>
          <p:nvPr/>
        </p:nvSpPr>
        <p:spPr>
          <a:xfrm flipV="1" rot="10800000">
            <a:off x="3795840" y="5178600"/>
            <a:ext cx="4868640" cy="11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500" spc="-1" strike="noStrike">
                <a:solidFill>
                  <a:srgbClr val="002060"/>
                </a:solidFill>
                <a:latin typeface="Verdana"/>
              </a:rPr>
              <a:t>VIAA Izglītības atbalsta un starptautiskās sadarbības departamenta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500" spc="-1" strike="noStrike">
                <a:solidFill>
                  <a:srgbClr val="002060"/>
                </a:solidFill>
                <a:latin typeface="Verdana"/>
              </a:rPr>
              <a:t>Starptautisko sadarbības programmu nodaļas vec. proj.vad. </a:t>
            </a:r>
            <a:r>
              <a:rPr b="1" lang="lv-LV" sz="1500" spc="-1" strike="noStrike">
                <a:solidFill>
                  <a:srgbClr val="002060"/>
                </a:solidFill>
                <a:latin typeface="Verdana"/>
              </a:rPr>
              <a:t>Linards Deidul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639C11DF-49FD-444B-A321-19CE3D521452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590560" y="196560"/>
            <a:ext cx="6095880" cy="10364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500" spc="-1" strike="noStrike">
                <a:solidFill>
                  <a:srgbClr val="00b050"/>
                </a:solidFill>
                <a:latin typeface="Verdana"/>
                <a:ea typeface="Verdana"/>
              </a:rPr>
              <a:t>Par studiju vizītēm – jaunu projektu veidu Nordplus Jauniešu apakšprogrammā -  atsevišķs seminārs 06.09.24</a:t>
            </a:r>
            <a:r>
              <a:rPr b="1" lang="lv-LV" sz="2500" spc="-1" strike="noStrike">
                <a:solidFill>
                  <a:srgbClr val="0b7d91"/>
                </a:solidFill>
                <a:latin typeface="Verdana"/>
                <a:ea typeface="Verdana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TextBox 10"/>
          <p:cNvSpPr/>
          <p:nvPr/>
        </p:nvSpPr>
        <p:spPr>
          <a:xfrm>
            <a:off x="250920" y="3706920"/>
            <a:ext cx="3465360" cy="11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alibri"/>
                <a:ea typeface="Calibri"/>
              </a:rPr>
              <a:t>https://www.viaa.gov.lv/lv/jaunums/aicinam-pieteikties-tiessaistes-seminaram-par-nordplus-2024-gada-studiju-vizisu-konkursu</a:t>
            </a:r>
            <a:r>
              <a:rPr b="0" lang="lv-LV" sz="17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7" name="Picture 2" descr=""/>
          <p:cNvPicPr/>
          <p:nvPr/>
        </p:nvPicPr>
        <p:blipFill>
          <a:blip r:embed="rId1"/>
          <a:stretch/>
        </p:blipFill>
        <p:spPr>
          <a:xfrm>
            <a:off x="4098960" y="2019240"/>
            <a:ext cx="4435560" cy="33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8" name="Picture 4" descr=""/>
          <p:cNvPicPr/>
          <p:nvPr/>
        </p:nvPicPr>
        <p:blipFill>
          <a:blip r:embed="rId1"/>
          <a:stretch/>
        </p:blipFill>
        <p:spPr>
          <a:xfrm>
            <a:off x="3179880" y="1238400"/>
            <a:ext cx="5816520" cy="5238720"/>
          </a:xfrm>
          <a:prstGeom prst="rect">
            <a:avLst/>
          </a:prstGeom>
          <a:ln w="0">
            <a:noFill/>
          </a:ln>
        </p:spPr>
      </p:pic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0" y="1943280"/>
            <a:ext cx="3268800" cy="27684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marL="343080" indent="-343080" algn="ctr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2060"/>
                </a:solidFill>
                <a:latin typeface="Verdana"/>
                <a:ea typeface="Verdana"/>
              </a:rPr>
              <a:t>Nepieciešams ievadīt informāciju par savu un partneru organizāciju </a:t>
            </a:r>
            <a:r>
              <a:rPr b="1" lang="lv-LV" sz="1600" spc="-1" strike="noStrike">
                <a:solidFill>
                  <a:srgbClr val="002060"/>
                </a:solidFill>
                <a:latin typeface="Verdana"/>
                <a:ea typeface="Verdana"/>
              </a:rPr>
              <a:t>Nordplus datubāzē </a:t>
            </a:r>
            <a:r>
              <a:rPr b="0" lang="lv-LV" sz="1600" spc="-1" strike="noStrike">
                <a:solidFill>
                  <a:srgbClr val="002060"/>
                </a:solidFill>
                <a:latin typeface="Verdana"/>
                <a:ea typeface="Verdana"/>
              </a:rPr>
              <a:t>(ja tās vēl nav reģistrētas datu bāzē!) </a:t>
            </a:r>
            <a:br>
              <a:rPr sz="1600"/>
            </a:br>
            <a:br>
              <a:rPr sz="1600"/>
            </a:br>
            <a:r>
              <a:rPr b="0" lang="lv-LV" sz="1600" spc="-1" strike="noStrike">
                <a:solidFill>
                  <a:srgbClr val="002060"/>
                </a:solidFill>
                <a:latin typeface="Verdana"/>
                <a:ea typeface="Verdana"/>
              </a:rPr>
              <a:t>Abām organizācijām sistēma ģenerē </a:t>
            </a:r>
            <a:r>
              <a:rPr b="1" lang="lv-LV" sz="1600" spc="-1" strike="noStrike">
                <a:solidFill>
                  <a:srgbClr val="002060"/>
                </a:solidFill>
                <a:latin typeface="Verdana"/>
                <a:ea typeface="Verdana"/>
              </a:rPr>
              <a:t>apliecinājuma vēstules</a:t>
            </a:r>
            <a:r>
              <a:rPr b="0" lang="lv-LV" sz="1600" spc="-1" strike="noStrike">
                <a:solidFill>
                  <a:srgbClr val="002060"/>
                </a:solidFill>
                <a:latin typeface="Verdana"/>
                <a:ea typeface="Verdana"/>
              </a:rPr>
              <a:t>, kuras jāparaksta visu projektā iesaisīto organizāciju/iestāžu paraksttiesīgajām personām, jāieskanē un jāpievieno pieteikumam </a:t>
            </a:r>
            <a:br>
              <a:rPr sz="1600"/>
            </a:br>
            <a:br>
              <a:rPr sz="1600"/>
            </a:br>
            <a:r>
              <a:rPr b="0" lang="lv-LV" sz="1600" spc="-1" strike="noStrike">
                <a:solidFill>
                  <a:srgbClr val="00206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F8600B87-BA6C-41CE-BF21-12DA70AA0722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81" name="Straight Arrow Connector 8"/>
          <p:cNvCxnSpPr/>
          <p:nvPr/>
        </p:nvCxnSpPr>
        <p:spPr>
          <a:xfrm flipV="1">
            <a:off x="3098520" y="2082960"/>
            <a:ext cx="1600920" cy="33660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triangle" w="med"/>
          </a:ln>
        </p:spPr>
      </p:cxnSp>
      <p:cxnSp>
        <p:nvCxnSpPr>
          <p:cNvPr id="782" name="Straight Arrow Connector 10"/>
          <p:cNvCxnSpPr/>
          <p:nvPr/>
        </p:nvCxnSpPr>
        <p:spPr>
          <a:xfrm flipV="1">
            <a:off x="3098520" y="2082600"/>
            <a:ext cx="3005640" cy="67320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triangle" w="med"/>
          </a:ln>
        </p:spPr>
      </p:cxnSp>
      <p:cxnSp>
        <p:nvCxnSpPr>
          <p:cNvPr id="783" name="Straight Arrow Connector 12"/>
          <p:cNvCxnSpPr/>
          <p:nvPr/>
        </p:nvCxnSpPr>
        <p:spPr>
          <a:xfrm flipV="1">
            <a:off x="2819160" y="2082240"/>
            <a:ext cx="4966200" cy="160380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triangle" w="med"/>
          </a:ln>
        </p:spPr>
      </p:cxnSp>
      <p:sp>
        <p:nvSpPr>
          <p:cNvPr id="784" name="Title 1"/>
          <p:cNvSpPr/>
          <p:nvPr/>
        </p:nvSpPr>
        <p:spPr>
          <a:xfrm>
            <a:off x="2590920" y="196920"/>
            <a:ext cx="609588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400" spc="-1" strike="noStrike">
                <a:solidFill>
                  <a:srgbClr val="0b7d91"/>
                </a:solidFill>
                <a:latin typeface="Verdana"/>
                <a:ea typeface="Verdana"/>
              </a:rPr>
              <a:t>Projektā iesaistītās organizācijas – koordinators un partne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5" name="Picture 4" descr=""/>
          <p:cNvPicPr/>
          <p:nvPr/>
        </p:nvPicPr>
        <p:blipFill>
          <a:blip r:embed="rId1"/>
          <a:stretch/>
        </p:blipFill>
        <p:spPr>
          <a:xfrm>
            <a:off x="4673520" y="3238560"/>
            <a:ext cx="3152880" cy="320364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2" descr=""/>
          <p:cNvPicPr/>
          <p:nvPr/>
        </p:nvPicPr>
        <p:blipFill>
          <a:blip r:embed="rId2"/>
          <a:stretch/>
        </p:blipFill>
        <p:spPr>
          <a:xfrm>
            <a:off x="3878280" y="-214200"/>
            <a:ext cx="5478480" cy="3171600"/>
          </a:xfrm>
          <a:prstGeom prst="rect">
            <a:avLst/>
          </a:prstGeom>
          <a:ln w="0">
            <a:noFill/>
          </a:ln>
        </p:spPr>
      </p:pic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0" y="1943280"/>
            <a:ext cx="3268800" cy="34797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marL="264960" indent="-172800" algn="ctr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2060"/>
                </a:solidFill>
                <a:latin typeface="Verdana"/>
                <a:ea typeface="Verdana"/>
              </a:rPr>
              <a:t>Noteikti jāpārliecinās, vai partneru organizācija jau iepriekš nav reģistrēta Espresso sistēmā, ja nav, tad jāpievieno. </a:t>
            </a:r>
            <a:br>
              <a:rPr sz="1600"/>
            </a:br>
            <a:br>
              <a:rPr sz="1600"/>
            </a:br>
            <a:br>
              <a:rPr sz="1600"/>
            </a:br>
            <a:r>
              <a:rPr b="0" lang="lv-LV" sz="1600" spc="-1" strike="noStrike">
                <a:solidFill>
                  <a:srgbClr val="002060"/>
                </a:solidFill>
                <a:latin typeface="Verdana"/>
                <a:ea typeface="Verdana"/>
              </a:rPr>
              <a:t>Angļu valodā jāizmanto tāds partneru organizācijas nosaukums, kādu organizācija lieto pati.  </a:t>
            </a: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0" lang="lv-LV" sz="1600" spc="-1" strike="noStrike">
                <a:solidFill>
                  <a:srgbClr val="002060"/>
                </a:solidFill>
                <a:latin typeface="Verdana"/>
                <a:ea typeface="Verdana"/>
              </a:rPr>
              <a:t> </a:t>
            </a:r>
            <a:br>
              <a:rPr sz="1600"/>
            </a:br>
            <a:br>
              <a:rPr sz="1600"/>
            </a:br>
            <a:r>
              <a:rPr b="0" lang="lv-LV" sz="1600" spc="-1" strike="noStrike">
                <a:solidFill>
                  <a:srgbClr val="00206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88" name="Straight Arrow Connector 9"/>
          <p:cNvCxnSpPr/>
          <p:nvPr/>
        </p:nvCxnSpPr>
        <p:spPr>
          <a:xfrm flipV="1">
            <a:off x="2850840" y="1166400"/>
            <a:ext cx="4537800" cy="76896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triangle" w="med"/>
          </a:ln>
        </p:spPr>
      </p:cxnSp>
      <p:sp>
        <p:nvSpPr>
          <p:cNvPr id="789" name="Left Arrow 13"/>
          <p:cNvSpPr/>
          <p:nvPr/>
        </p:nvSpPr>
        <p:spPr>
          <a:xfrm rot="16200000">
            <a:off x="5375160" y="2305080"/>
            <a:ext cx="1666800" cy="355320"/>
          </a:xfrm>
          <a:prstGeom prst="leftArrow">
            <a:avLst>
              <a:gd name="adj1" fmla="val 50000"/>
              <a:gd name="adj2" fmla="val 54533"/>
            </a:avLst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0" name="Picture 6" descr=""/>
          <p:cNvPicPr/>
          <p:nvPr/>
        </p:nvPicPr>
        <p:blipFill>
          <a:blip r:embed="rId1"/>
          <a:srcRect l="0" t="0" r="4749" b="0"/>
          <a:stretch/>
        </p:blipFill>
        <p:spPr>
          <a:xfrm>
            <a:off x="611280" y="3151080"/>
            <a:ext cx="8172360" cy="2533680"/>
          </a:xfrm>
          <a:prstGeom prst="rect">
            <a:avLst/>
          </a:prstGeom>
          <a:ln w="0">
            <a:noFill/>
          </a:ln>
        </p:spPr>
      </p:pic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2590560" y="196920"/>
            <a:ext cx="6095880" cy="7761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500" spc="-1" strike="noStrike">
                <a:solidFill>
                  <a:srgbClr val="0b7d91"/>
                </a:solidFill>
                <a:latin typeface="Verdana"/>
                <a:ea typeface="Verdana"/>
              </a:rPr>
              <a:t>Sagatavošanas vizītes aprakst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Title 1"/>
          <p:cNvSpPr/>
          <p:nvPr/>
        </p:nvSpPr>
        <p:spPr>
          <a:xfrm>
            <a:off x="1128600" y="1914480"/>
            <a:ext cx="704232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rmAutofit/>
          </a:bodyPr>
          <a:p>
            <a:pPr marL="343080" indent="-343080" algn="ctr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2060"/>
                </a:solidFill>
                <a:latin typeface="Verdana"/>
              </a:rPr>
              <a:t>Rokasgrāmata, 41. lpp (pdf),  sadaļa  «The Application»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3" name="Picture 2" descr=""/>
          <p:cNvPicPr/>
          <p:nvPr/>
        </p:nvPicPr>
        <p:blipFill>
          <a:blip r:embed="rId1"/>
          <a:srcRect l="0" t="6166" r="0" b="0"/>
          <a:stretch/>
        </p:blipFill>
        <p:spPr>
          <a:xfrm>
            <a:off x="3218040" y="1709640"/>
            <a:ext cx="5759280" cy="4214880"/>
          </a:xfrm>
          <a:prstGeom prst="rect">
            <a:avLst/>
          </a:prstGeom>
          <a:ln w="0">
            <a:noFill/>
          </a:ln>
        </p:spPr>
      </p:pic>
      <p:sp>
        <p:nvSpPr>
          <p:cNvPr id="794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1FCED0EC-4C58-48EB-BF43-48BBC8FC1B8F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Title 1"/>
          <p:cNvSpPr/>
          <p:nvPr/>
        </p:nvSpPr>
        <p:spPr>
          <a:xfrm>
            <a:off x="0" y="1943280"/>
            <a:ext cx="2232000" cy="36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rmAutofit/>
          </a:bodyPr>
          <a:p>
            <a:pPr marL="343080" indent="-343080">
              <a:lnSpc>
                <a:spcPct val="8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700" spc="-1" strike="noStrike">
                <a:solidFill>
                  <a:srgbClr val="002060"/>
                </a:solidFill>
                <a:latin typeface="Verdana"/>
              </a:rPr>
              <a:t>Īsi jāapraksta </a:t>
            </a:r>
            <a:r>
              <a:rPr b="1" lang="lv-LV" sz="1700" spc="-1" strike="noStrike">
                <a:solidFill>
                  <a:srgbClr val="002060"/>
                </a:solidFill>
                <a:latin typeface="Verdana"/>
              </a:rPr>
              <a:t>paredzamā  projekta iecere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700" spc="-1" strike="noStrike">
                <a:solidFill>
                  <a:srgbClr val="002060"/>
                </a:solidFill>
                <a:latin typeface="Verdana"/>
              </a:rPr>
              <a:t>Aprakstiem jābūt koncentrētiem -  un vienlaikus tiem jāsniedz skaidrs priekšstats gan par projekta ieceri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6" name="Straight Arrow Connector 12"/>
          <p:cNvCxnSpPr/>
          <p:nvPr/>
        </p:nvCxnSpPr>
        <p:spPr>
          <a:xfrm>
            <a:off x="1958760" y="2209320"/>
            <a:ext cx="3182040" cy="123588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7" name="Picture 7" descr=""/>
          <p:cNvPicPr/>
          <p:nvPr/>
        </p:nvPicPr>
        <p:blipFill>
          <a:blip r:embed="rId1"/>
          <a:srcRect l="0" t="6263" r="0" b="0"/>
          <a:stretch/>
        </p:blipFill>
        <p:spPr>
          <a:xfrm>
            <a:off x="3405240" y="933480"/>
            <a:ext cx="4903560" cy="4375080"/>
          </a:xfrm>
          <a:prstGeom prst="rect">
            <a:avLst/>
          </a:prstGeom>
          <a:ln w="0">
            <a:noFill/>
          </a:ln>
        </p:spPr>
      </p:pic>
      <p:sp>
        <p:nvSpPr>
          <p:cNvPr id="798" name="Title 1"/>
          <p:cNvSpPr/>
          <p:nvPr/>
        </p:nvSpPr>
        <p:spPr>
          <a:xfrm>
            <a:off x="0" y="1943280"/>
            <a:ext cx="2849400" cy="32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rmAutofit/>
          </a:bodyPr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2060"/>
                </a:solidFill>
                <a:latin typeface="Verdana"/>
              </a:rPr>
              <a:t>Jāapraksta </a:t>
            </a:r>
            <a:r>
              <a:rPr b="1" lang="lv-LV" sz="1800" spc="-1" strike="noStrike">
                <a:solidFill>
                  <a:srgbClr val="002060"/>
                </a:solidFill>
                <a:latin typeface="Verdana"/>
              </a:rPr>
              <a:t>vizītes darba kārtīb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800" spc="-1" strike="noStrike">
                <a:solidFill>
                  <a:srgbClr val="002060"/>
                </a:solidFill>
                <a:latin typeface="Verdana"/>
              </a:rPr>
              <a:t>Vizītes darba kārtībai jābalstās uz projekta pieteikuma plānošanu </a:t>
            </a:r>
            <a:r>
              <a:rPr b="0" lang="lv-LV" sz="1800" spc="-1" strike="noStrike">
                <a:solidFill>
                  <a:srgbClr val="002060"/>
                </a:solidFill>
                <a:latin typeface="Verdana"/>
              </a:rPr>
              <a:t>(mērķi, uzdevumi, rezultāti, norise…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9" name="Picture 2" descr=""/>
          <p:cNvPicPr/>
          <p:nvPr/>
        </p:nvPicPr>
        <p:blipFill>
          <a:blip r:embed="rId1"/>
          <a:srcRect l="0" t="8694" r="0" b="0"/>
          <a:stretch/>
        </p:blipFill>
        <p:spPr>
          <a:xfrm>
            <a:off x="3948120" y="549360"/>
            <a:ext cx="4456080" cy="3079800"/>
          </a:xfrm>
          <a:prstGeom prst="rect">
            <a:avLst/>
          </a:prstGeom>
          <a:ln w="0">
            <a:noFill/>
          </a:ln>
        </p:spPr>
      </p:pic>
      <p:sp>
        <p:nvSpPr>
          <p:cNvPr id="800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316EB51A-F55E-413D-BBEC-B88876C4E92A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1" name="Straight Arrow Connector 9"/>
          <p:cNvCxnSpPr/>
          <p:nvPr/>
        </p:nvCxnSpPr>
        <p:spPr>
          <a:xfrm flipH="1">
            <a:off x="4258800" y="2095200"/>
            <a:ext cx="16560" cy="2265840"/>
          </a:xfrm>
          <a:prstGeom prst="straightConnector1">
            <a:avLst/>
          </a:prstGeom>
          <a:ln w="38160">
            <a:solidFill>
              <a:srgbClr val="c0504d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802" name="Title 1"/>
          <p:cNvSpPr/>
          <p:nvPr/>
        </p:nvSpPr>
        <p:spPr>
          <a:xfrm>
            <a:off x="0" y="1943280"/>
            <a:ext cx="308628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2060"/>
                </a:solidFill>
                <a:latin typeface="Verdana"/>
              </a:rPr>
              <a:t>Jāieraksta dati – apmeklējamā valsts,  braucēju skaits (maks.2 personas)  un brauciena ilgums (maks. 5 dienas, ieskaitot ceļu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3" name="Picture 8" descr=""/>
          <p:cNvPicPr/>
          <p:nvPr/>
        </p:nvPicPr>
        <p:blipFill>
          <a:blip r:embed="rId2"/>
          <a:stretch/>
        </p:blipFill>
        <p:spPr>
          <a:xfrm>
            <a:off x="3208320" y="4361040"/>
            <a:ext cx="382896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4" descr=""/>
          <p:cNvPicPr/>
          <p:nvPr/>
        </p:nvPicPr>
        <p:blipFill>
          <a:blip r:embed="rId1"/>
          <a:srcRect l="0" t="0" r="0" b="76419"/>
          <a:stretch/>
        </p:blipFill>
        <p:spPr>
          <a:xfrm>
            <a:off x="4597560" y="4807080"/>
            <a:ext cx="3828960" cy="720720"/>
          </a:xfrm>
          <a:prstGeom prst="rect">
            <a:avLst/>
          </a:prstGeom>
          <a:ln w="0">
            <a:noFill/>
          </a:ln>
        </p:spPr>
      </p:pic>
      <p:sp>
        <p:nvSpPr>
          <p:cNvPr id="805" name="Title 1"/>
          <p:cNvSpPr/>
          <p:nvPr/>
        </p:nvSpPr>
        <p:spPr>
          <a:xfrm>
            <a:off x="0" y="1943280"/>
            <a:ext cx="2232000" cy="15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rmAutofit/>
          </a:bodyPr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2060"/>
                </a:solidFill>
                <a:latin typeface="Verdana"/>
              </a:rPr>
              <a:t>Pieprasīto budžetu sistēma aprēķina automātiski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Title 1"/>
          <p:cNvSpPr/>
          <p:nvPr/>
        </p:nvSpPr>
        <p:spPr>
          <a:xfrm>
            <a:off x="100080" y="4184640"/>
            <a:ext cx="3448080" cy="15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rmAutofit/>
          </a:bodyPr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2060"/>
                </a:solidFill>
                <a:latin typeface="Verdana"/>
              </a:rPr>
              <a:t>Obligāti jāpievieno partneru apliecinājuma vēstules (tai skaitā arī no savas organizācijas)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7" name="Straight Arrow Connector 6"/>
          <p:cNvCxnSpPr/>
          <p:nvPr/>
        </p:nvCxnSpPr>
        <p:spPr>
          <a:xfrm>
            <a:off x="2827440" y="4327200"/>
            <a:ext cx="1745280" cy="62604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triangle" w="med"/>
          </a:ln>
        </p:spPr>
      </p:cxnSp>
      <p:pic>
        <p:nvPicPr>
          <p:cNvPr id="808" name="Picture 2" descr=""/>
          <p:cNvPicPr/>
          <p:nvPr/>
        </p:nvPicPr>
        <p:blipFill>
          <a:blip r:embed="rId2"/>
          <a:srcRect l="0" t="15722" r="0" b="0"/>
          <a:stretch/>
        </p:blipFill>
        <p:spPr>
          <a:xfrm>
            <a:off x="2749680" y="2050920"/>
            <a:ext cx="5676840" cy="19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Title 1"/>
          <p:cNvSpPr/>
          <p:nvPr/>
        </p:nvSpPr>
        <p:spPr>
          <a:xfrm>
            <a:off x="0" y="1943280"/>
            <a:ext cx="2476440" cy="42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rmAutofit/>
          </a:bodyPr>
          <a:p>
            <a:pPr marL="88920" indent="-88920">
              <a:lnSpc>
                <a:spcPct val="9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0000"/>
                </a:solidFill>
                <a:latin typeface="Verdana"/>
              </a:rPr>
              <a:t>Iespēja aplūkot/lejuplādēt projekta pieteikum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9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9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9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9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600" spc="-1" strike="noStrike">
                <a:solidFill>
                  <a:srgbClr val="000000"/>
                </a:solidFill>
                <a:latin typeface="Verdana"/>
              </a:rPr>
              <a:t>Atgādinājums par   prasībām, kuras neievērojot, pieteikums netiks izskatīts</a:t>
            </a:r>
            <a:r>
              <a:rPr b="0" lang="lv-LV" sz="1600" spc="-1" strike="noStrike">
                <a:solidFill>
                  <a:srgbClr val="000000"/>
                </a:solidFill>
                <a:latin typeface="Verdana"/>
              </a:rPr>
              <a:t> (vismaz 2 organizācijas no 2 dažādām valstīm; apliecinājuma vēstules no katras iesaistītās organizācijas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9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9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10" name="Straight Arrow Connector 8"/>
          <p:cNvCxnSpPr/>
          <p:nvPr/>
        </p:nvCxnSpPr>
        <p:spPr>
          <a:xfrm>
            <a:off x="1714320" y="2827440"/>
            <a:ext cx="1410120" cy="101664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triangle" w="med"/>
          </a:ln>
        </p:spPr>
      </p:cxnSp>
      <p:cxnSp>
        <p:nvCxnSpPr>
          <p:cNvPr id="811" name="Straight Arrow Connector 11"/>
          <p:cNvCxnSpPr/>
          <p:nvPr/>
        </p:nvCxnSpPr>
        <p:spPr>
          <a:xfrm>
            <a:off x="2095200" y="5024160"/>
            <a:ext cx="762840" cy="108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triangle" w="med"/>
          </a:ln>
        </p:spPr>
      </p:cxnSp>
      <p:pic>
        <p:nvPicPr>
          <p:cNvPr id="812" name="Picture 2" descr=""/>
          <p:cNvPicPr/>
          <p:nvPr/>
        </p:nvPicPr>
        <p:blipFill>
          <a:blip r:embed="rId1"/>
          <a:srcRect l="0" t="9362" r="0" b="0"/>
          <a:stretch/>
        </p:blipFill>
        <p:spPr>
          <a:xfrm>
            <a:off x="3124080" y="2827440"/>
            <a:ext cx="5639040" cy="28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C026962B-6A74-4774-991D-A46B4917AFCF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Title 1"/>
          <p:cNvSpPr/>
          <p:nvPr/>
        </p:nvSpPr>
        <p:spPr>
          <a:xfrm>
            <a:off x="0" y="1943280"/>
            <a:ext cx="2332080" cy="407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500" spc="-1" strike="noStrike">
                <a:solidFill>
                  <a:srgbClr val="002060"/>
                </a:solidFill>
                <a:latin typeface="Verdana"/>
              </a:rPr>
              <a:t>! Ja sagatavošanas vizītes pieteikums tiks atbalstīts, šie bankas rekvizīti </a:t>
            </a:r>
            <a:r>
              <a:rPr b="1" lang="lv-LV" sz="1500" spc="-1" strike="noStrike">
                <a:solidFill>
                  <a:srgbClr val="002060"/>
                </a:solidFill>
                <a:latin typeface="Verdana"/>
              </a:rPr>
              <a:t>tiks ietverti līgumā </a:t>
            </a:r>
            <a:r>
              <a:rPr b="0" lang="lv-LV" sz="1500" spc="-1" strike="noStrike">
                <a:solidFill>
                  <a:srgbClr val="002060"/>
                </a:solidFill>
                <a:latin typeface="Verdana"/>
              </a:rPr>
              <a:t>un </a:t>
            </a:r>
            <a:r>
              <a:rPr b="1" lang="lv-LV" sz="1500" spc="-1" strike="noStrike">
                <a:solidFill>
                  <a:srgbClr val="002060"/>
                </a:solidFill>
                <a:latin typeface="Verdana"/>
              </a:rPr>
              <a:t>uz norādīto kontu </a:t>
            </a:r>
            <a:r>
              <a:rPr b="0" lang="lv-LV" sz="1500" spc="-1" strike="noStrike">
                <a:solidFill>
                  <a:srgbClr val="002060"/>
                </a:solidFill>
                <a:latin typeface="Verdana"/>
              </a:rPr>
              <a:t>tiks pārskaitīts piešķirtais finansējums.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500" spc="-1" strike="noStrike">
                <a:solidFill>
                  <a:srgbClr val="002060"/>
                </a:solidFill>
                <a:latin typeface="Verdana"/>
              </a:rPr>
              <a:t>Pie bankas rekvizītiem – «Your reference» ir organizācijas iekšējais identifikators (ja tāds ir)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500" spc="-1" strike="noStrike">
                <a:solidFill>
                  <a:srgbClr val="002060"/>
                </a:solidFill>
                <a:latin typeface="Verdan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5" name="Picture 1" descr=""/>
          <p:cNvPicPr/>
          <p:nvPr/>
        </p:nvPicPr>
        <p:blipFill>
          <a:blip r:embed="rId1"/>
          <a:stretch/>
        </p:blipFill>
        <p:spPr>
          <a:xfrm>
            <a:off x="2604960" y="895320"/>
            <a:ext cx="5762880" cy="5429160"/>
          </a:xfrm>
          <a:prstGeom prst="rect">
            <a:avLst/>
          </a:prstGeom>
          <a:ln w="0">
            <a:noFill/>
          </a:ln>
        </p:spPr>
      </p:pic>
      <p:cxnSp>
        <p:nvCxnSpPr>
          <p:cNvPr id="816" name="Straight Arrow Connector 2"/>
          <p:cNvCxnSpPr/>
          <p:nvPr/>
        </p:nvCxnSpPr>
        <p:spPr>
          <a:xfrm>
            <a:off x="2158560" y="4808160"/>
            <a:ext cx="577080" cy="108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590560" y="196560"/>
            <a:ext cx="6095880" cy="10364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500" spc="-1" strike="noStrike">
                <a:solidFill>
                  <a:srgbClr val="0b7d91"/>
                </a:solidFill>
                <a:latin typeface="Verdana"/>
                <a:ea typeface="Verdana"/>
              </a:rPr>
              <a:t>Kam ir jābūt zināmam  sagatavošanas vizītes pieteikuma iesniegšanas brīdī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 txBox="1"/>
          <p:nvPr/>
        </p:nvSpPr>
        <p:spPr>
          <a:xfrm>
            <a:off x="2012760" y="1775880"/>
            <a:ext cx="6870600" cy="43167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800" spc="-1" strike="noStrike">
                <a:solidFill>
                  <a:srgbClr val="002060"/>
                </a:solidFill>
                <a:latin typeface="Calibri"/>
                <a:ea typeface="Verdana"/>
              </a:rPr>
              <a:t> </a:t>
            </a:r>
            <a:r>
              <a:rPr b="0" lang="lv-LV" sz="2800" spc="-1" strike="noStrike">
                <a:solidFill>
                  <a:srgbClr val="002060"/>
                </a:solidFill>
                <a:latin typeface="Calibri"/>
                <a:ea typeface="Verdana"/>
              </a:rPr>
              <a:t>Kādā apakšprogrammā (</a:t>
            </a:r>
            <a:r>
              <a:rPr b="0" i="1" lang="lv-LV" sz="2800" spc="-1" strike="noStrike">
                <a:solidFill>
                  <a:srgbClr val="002060"/>
                </a:solidFill>
                <a:latin typeface="Calibri"/>
                <a:ea typeface="Verdana"/>
              </a:rPr>
              <a:t>Junior, Adult, Nordic Languages</a:t>
            </a:r>
            <a:r>
              <a:rPr b="0" lang="lv-LV" sz="2800" spc="-1" strike="noStrike">
                <a:solidFill>
                  <a:srgbClr val="002060"/>
                </a:solidFill>
                <a:latin typeface="Calibri"/>
                <a:ea typeface="Verdana"/>
              </a:rPr>
              <a:t>) paredzēts iesniegt projektu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800" spc="-1" strike="noStrike">
                <a:solidFill>
                  <a:srgbClr val="002060"/>
                </a:solidFill>
                <a:latin typeface="Calibri"/>
                <a:ea typeface="Verdana"/>
              </a:rPr>
              <a:t>Kas būs projekta partneri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800" spc="-1" strike="noStrike">
                <a:solidFill>
                  <a:srgbClr val="002060"/>
                </a:solidFill>
                <a:latin typeface="Calibri"/>
                <a:ea typeface="Verdana"/>
              </a:rPr>
              <a:t>Projekta ideja – ko un kāpēc plānots darīt, kādi būs iespējamie rezultāti un ietek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800" spc="-1" strike="noStrike">
                <a:solidFill>
                  <a:srgbClr val="002060"/>
                </a:solidFill>
                <a:latin typeface="Calibri"/>
                <a:ea typeface="Verdana"/>
              </a:rPr>
              <a:t>Sagatavošanas vizītes paredzamā darba kārtīb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600" spc="-1" strike="noStrike">
                <a:solidFill>
                  <a:srgbClr val="000000"/>
                </a:solidFill>
                <a:latin typeface="Calibri"/>
                <a:ea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5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Title 1"/>
          <p:cNvSpPr/>
          <p:nvPr/>
        </p:nvSpPr>
        <p:spPr>
          <a:xfrm>
            <a:off x="106200" y="2120760"/>
            <a:ext cx="247680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rmAutofit/>
          </a:bodyPr>
          <a:p>
            <a:pPr marL="88920" indent="-88920" algn="ctr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Verdana"/>
              </a:rPr>
              <a:t> </a:t>
            </a:r>
            <a:r>
              <a:rPr b="0" lang="lv-LV" sz="1800" spc="-1" strike="noStrike">
                <a:solidFill>
                  <a:srgbClr val="002060"/>
                </a:solidFill>
                <a:latin typeface="Verdana"/>
              </a:rPr>
              <a:t>Pirms iesniegšanas sistēma pārbauda, vai ir aizpildītas visas pieteikuma sadaļas un nepieļauj iesniegt daļēji aizpildītu pieteikumu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8" name="Picture 2" descr=""/>
          <p:cNvPicPr/>
          <p:nvPr/>
        </p:nvPicPr>
        <p:blipFill>
          <a:blip r:embed="rId1"/>
          <a:stretch/>
        </p:blipFill>
        <p:spPr>
          <a:xfrm>
            <a:off x="2789280" y="1290600"/>
            <a:ext cx="6045120" cy="40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"/>
          <p:cNvSpPr txBox="1"/>
          <p:nvPr/>
        </p:nvSpPr>
        <p:spPr>
          <a:xfrm>
            <a:off x="1587240" y="1049400"/>
            <a:ext cx="7132680" cy="47592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60360" indent="-360360"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lv-LV" sz="3200" spc="-1" strike="noStrike">
                <a:solidFill>
                  <a:srgbClr val="0b7d91"/>
                </a:solidFill>
                <a:latin typeface="Calibri"/>
                <a:ea typeface="Verdana"/>
              </a:rPr>
              <a:t>Jautājumu gadījumā lūdzu sazinā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Linards Deidul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i="1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Nordplus</a:t>
            </a:r>
            <a:r>
              <a:rPr b="1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 program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tālr. 67830837, 29554403 (GSM, WhatsAp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linards.deidulis@viaa.gov.l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Espresso sistēmas administrators Norvēģijā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Frank Krohn: frank.krohn@hkdir.n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lv-LV" sz="2000" spc="-1" strike="noStrike">
                <a:solidFill>
                  <a:srgbClr val="ff0000"/>
                </a:solidFill>
                <a:latin typeface="Calibri"/>
                <a:ea typeface="Verdana"/>
              </a:rPr>
              <a:t>VIAA sagatavotajiem materiāliem ir </a:t>
            </a:r>
            <a:r>
              <a:rPr b="1" lang="lv-LV" sz="2000" spc="-1" strike="noStrike" u="sng">
                <a:solidFill>
                  <a:srgbClr val="ff0000"/>
                </a:solidFill>
                <a:uFillTx/>
                <a:latin typeface="Calibri"/>
                <a:ea typeface="Verdana"/>
              </a:rPr>
              <a:t>informatīvs un paskaidrojošs raksturs</a:t>
            </a:r>
            <a:r>
              <a:rPr b="1" lang="lv-LV" sz="2000" spc="-1" strike="noStrike">
                <a:solidFill>
                  <a:srgbClr val="ff0000"/>
                </a:solidFill>
                <a:latin typeface="Calibri"/>
                <a:ea typeface="Verdana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Projektu pieteicējiem ir saistoši dokumenti, kas publicēti </a:t>
            </a: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www.nordplusonline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0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Vispārīgā informāc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7" name="Content Placeholder 1" descr=""/>
          <p:cNvPicPr/>
          <p:nvPr/>
        </p:nvPicPr>
        <p:blipFill>
          <a:blip r:embed="rId1"/>
          <a:stretch/>
        </p:blipFill>
        <p:spPr>
          <a:xfrm>
            <a:off x="2901960" y="1695600"/>
            <a:ext cx="5907240" cy="4071960"/>
          </a:xfrm>
          <a:prstGeom prst="rect">
            <a:avLst/>
          </a:prstGeom>
          <a:ln w="0">
            <a:noFill/>
          </a:ln>
        </p:spPr>
      </p:pic>
      <p:pic>
        <p:nvPicPr>
          <p:cNvPr id="748" name="Picture 2" descr=""/>
          <p:cNvPicPr/>
          <p:nvPr/>
        </p:nvPicPr>
        <p:blipFill>
          <a:blip r:embed="rId2"/>
          <a:stretch/>
        </p:blipFill>
        <p:spPr>
          <a:xfrm>
            <a:off x="5924520" y="3772080"/>
            <a:ext cx="3156120" cy="957240"/>
          </a:xfrm>
          <a:prstGeom prst="rect">
            <a:avLst/>
          </a:prstGeom>
          <a:ln w="0">
            <a:noFill/>
          </a:ln>
        </p:spPr>
      </p:pic>
      <p:sp>
        <p:nvSpPr>
          <p:cNvPr id="749" name="Title 1"/>
          <p:cNvSpPr/>
          <p:nvPr/>
        </p:nvSpPr>
        <p:spPr>
          <a:xfrm>
            <a:off x="-165240" y="2860560"/>
            <a:ext cx="3016440" cy="14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rmAutofit/>
          </a:bodyPr>
          <a:p>
            <a:pPr marL="343080" indent="-343080" algn="ctr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2060"/>
                </a:solidFill>
                <a:latin typeface="Verdana"/>
                <a:ea typeface="Verdana"/>
              </a:rPr>
              <a:t>Iesniegums jāsagatavo un jāiesniedz tiešsaistē,   aizpildot elektronisko pieteikuma veidlapu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590560" y="196560"/>
            <a:ext cx="6095880" cy="10364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Projekta iesniegšana Espresso sistēm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 txBox="1"/>
          <p:nvPr/>
        </p:nvSpPr>
        <p:spPr>
          <a:xfrm>
            <a:off x="1828800" y="1252440"/>
            <a:ext cx="7223040" cy="49672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500" spc="-1" strike="noStrike">
                <a:solidFill>
                  <a:srgbClr val="000000"/>
                </a:solidFill>
                <a:latin typeface="Calibri"/>
                <a:ea typeface="Verdana"/>
              </a:rPr>
              <a:t>  </a:t>
            </a:r>
            <a:r>
              <a:rPr b="0" lang="lv-LV" sz="2500" spc="-1" strike="noStrike">
                <a:solidFill>
                  <a:srgbClr val="000000"/>
                </a:solidFill>
                <a:latin typeface="Verdana"/>
                <a:ea typeface="Verdana"/>
              </a:rPr>
              <a:t>https://espresso.diku.no/espresso/login?1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2" name="Picture 2" descr=""/>
          <p:cNvPicPr/>
          <p:nvPr/>
        </p:nvPicPr>
        <p:blipFill>
          <a:blip r:embed="rId1"/>
          <a:srcRect l="0" t="26520" r="0" b="0"/>
          <a:stretch/>
        </p:blipFill>
        <p:spPr>
          <a:xfrm>
            <a:off x="2490840" y="3040200"/>
            <a:ext cx="5838840" cy="2436840"/>
          </a:xfrm>
          <a:prstGeom prst="rect">
            <a:avLst/>
          </a:prstGeom>
          <a:ln w="0">
            <a:noFill/>
          </a:ln>
        </p:spPr>
      </p:pic>
      <p:sp>
        <p:nvSpPr>
          <p:cNvPr id="753" name="Left Arrow 6"/>
          <p:cNvSpPr/>
          <p:nvPr/>
        </p:nvSpPr>
        <p:spPr>
          <a:xfrm rot="1692600">
            <a:off x="7089480" y="4576320"/>
            <a:ext cx="1720800" cy="552600"/>
          </a:xfrm>
          <a:prstGeom prst="leftArrow">
            <a:avLst>
              <a:gd name="adj1" fmla="val 50000"/>
              <a:gd name="adj2" fmla="val 54481"/>
            </a:avLst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590560" y="196560"/>
            <a:ext cx="6095880" cy="10364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Projekta iesniegšana Espresso sistēm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 txBox="1"/>
          <p:nvPr/>
        </p:nvSpPr>
        <p:spPr>
          <a:xfrm>
            <a:off x="2012760" y="1393560"/>
            <a:ext cx="6870600" cy="7426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Calibri"/>
                <a:ea typeface="Verdana"/>
              </a:rPr>
              <a:t> </a:t>
            </a:r>
            <a:r>
              <a:rPr b="0" lang="lv-LV" sz="3200" spc="-1" strike="noStrike">
                <a:solidFill>
                  <a:srgbClr val="1f4e79"/>
                </a:solidFill>
                <a:latin typeface="Calibri"/>
                <a:ea typeface="Verdana"/>
              </a:rPr>
              <a:t>https://espresso.diku.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6" name="Picture 1" descr=""/>
          <p:cNvPicPr/>
          <p:nvPr/>
        </p:nvPicPr>
        <p:blipFill>
          <a:blip r:embed="rId1"/>
          <a:srcRect l="0" t="24891" r="0" b="0"/>
          <a:stretch/>
        </p:blipFill>
        <p:spPr>
          <a:xfrm>
            <a:off x="4025880" y="4721400"/>
            <a:ext cx="4660920" cy="2041200"/>
          </a:xfrm>
          <a:prstGeom prst="rect">
            <a:avLst/>
          </a:prstGeom>
          <a:ln w="0">
            <a:noFill/>
          </a:ln>
        </p:spPr>
      </p:pic>
      <p:pic>
        <p:nvPicPr>
          <p:cNvPr id="757" name="Picture 2" descr=""/>
          <p:cNvPicPr/>
          <p:nvPr/>
        </p:nvPicPr>
        <p:blipFill>
          <a:blip r:embed="rId2"/>
          <a:stretch/>
        </p:blipFill>
        <p:spPr>
          <a:xfrm>
            <a:off x="2660760" y="2238480"/>
            <a:ext cx="4916520" cy="2036520"/>
          </a:xfrm>
          <a:prstGeom prst="rect">
            <a:avLst/>
          </a:prstGeom>
          <a:ln w="0">
            <a:noFill/>
          </a:ln>
        </p:spPr>
      </p:pic>
      <p:cxnSp>
        <p:nvCxnSpPr>
          <p:cNvPr id="758" name="Straight Arrow Connector 4"/>
          <p:cNvCxnSpPr/>
          <p:nvPr/>
        </p:nvCxnSpPr>
        <p:spPr>
          <a:xfrm>
            <a:off x="5638320" y="3633840"/>
            <a:ext cx="1080" cy="1270800"/>
          </a:xfrm>
          <a:prstGeom prst="straightConnector1">
            <a:avLst/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2590560" y="196560"/>
            <a:ext cx="6095880" cy="10364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Projekta iesniegšana Espresso sistēm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0" name="Picture 2" descr=""/>
          <p:cNvPicPr/>
          <p:nvPr/>
        </p:nvPicPr>
        <p:blipFill>
          <a:blip r:embed="rId1"/>
          <a:stretch/>
        </p:blipFill>
        <p:spPr>
          <a:xfrm>
            <a:off x="0" y="1295280"/>
            <a:ext cx="9144000" cy="4267440"/>
          </a:xfrm>
          <a:prstGeom prst="rect">
            <a:avLst/>
          </a:prstGeom>
          <a:ln w="0">
            <a:noFill/>
          </a:ln>
        </p:spPr>
      </p:pic>
      <p:sp>
        <p:nvSpPr>
          <p:cNvPr id="761" name="Left Arrow 6"/>
          <p:cNvSpPr/>
          <p:nvPr/>
        </p:nvSpPr>
        <p:spPr>
          <a:xfrm rot="8365800">
            <a:off x="2230200" y="5498640"/>
            <a:ext cx="3019320" cy="530280"/>
          </a:xfrm>
          <a:prstGeom prst="leftArrow">
            <a:avLst>
              <a:gd name="adj1" fmla="val 50000"/>
              <a:gd name="adj2" fmla="val 54434"/>
            </a:avLst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2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2091960" y="415440"/>
            <a:ext cx="6095880" cy="7765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500" spc="-1" strike="noStrike">
                <a:solidFill>
                  <a:srgbClr val="0b7d91"/>
                </a:solidFill>
                <a:latin typeface="Verdana"/>
                <a:ea typeface="Verdana"/>
              </a:rPr>
              <a:t>Izvēlamies apakšprogrammu, kurā iesniegsim sagatavošanas vizītes pieteikumu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4" name="Picture 2" descr=""/>
          <p:cNvPicPr/>
          <p:nvPr/>
        </p:nvPicPr>
        <p:blipFill>
          <a:blip r:embed="rId2"/>
          <a:stretch/>
        </p:blipFill>
        <p:spPr>
          <a:xfrm>
            <a:off x="1541520" y="1824120"/>
            <a:ext cx="7197840" cy="39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1FA685EC-ADA5-482F-B76F-0FD5356F71DD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-360" y="1942920"/>
            <a:ext cx="2590920" cy="22842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marL="343080" indent="-343080" algn="ctr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2060"/>
                </a:solidFill>
                <a:latin typeface="Verdana"/>
                <a:ea typeface="Verdana"/>
              </a:rPr>
              <a:t>Iesniegums jāsagatavo un jāiesniedz tiešsaistē,   aizpildot elektronisko pieteikuma veidlapu. </a:t>
            </a:r>
            <a:br>
              <a:rPr sz="1600"/>
            </a:br>
            <a:br>
              <a:rPr sz="1600"/>
            </a:br>
            <a:r>
              <a:rPr b="0" lang="lv-LV" sz="16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0" lang="lv-LV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7" name="Picture 2" descr=""/>
          <p:cNvPicPr/>
          <p:nvPr/>
        </p:nvPicPr>
        <p:blipFill>
          <a:blip r:embed="rId1"/>
          <a:stretch/>
        </p:blipFill>
        <p:spPr>
          <a:xfrm>
            <a:off x="2478240" y="426960"/>
            <a:ext cx="618300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9B65B6DA-F899-44A3-BD0C-719411BDEF99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-360" y="1942920"/>
            <a:ext cx="2801880" cy="14857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marL="343080" indent="-343080" algn="ctr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2060"/>
                </a:solidFill>
                <a:latin typeface="Verdana"/>
                <a:ea typeface="Verdana"/>
              </a:rPr>
              <a:t>Izvēlamies projekta veidu – šajā gadījumā – </a:t>
            </a:r>
            <a:r>
              <a:rPr b="1" lang="lv-LV" sz="1600" spc="-1" strike="noStrike">
                <a:solidFill>
                  <a:srgbClr val="002060"/>
                </a:solidFill>
                <a:latin typeface="Verdana"/>
                <a:ea typeface="Verdana"/>
              </a:rPr>
              <a:t>sagatavošanas vizīti («Preparatory visit») . </a:t>
            </a:r>
            <a:br>
              <a:rPr sz="1600"/>
            </a:br>
            <a:br>
              <a:rPr sz="1600"/>
            </a:br>
            <a:r>
              <a:rPr b="0" lang="lv-LV" sz="16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0" lang="lv-LV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0" name="Picture 7" descr="A screenshot of a computer&#10;&#10;Description automatically generated"/>
          <p:cNvPicPr/>
          <p:nvPr/>
        </p:nvPicPr>
        <p:blipFill>
          <a:blip r:embed="rId1"/>
          <a:srcRect l="8189" t="15003" r="56997" b="25478"/>
          <a:stretch/>
        </p:blipFill>
        <p:spPr>
          <a:xfrm>
            <a:off x="3143160" y="228600"/>
            <a:ext cx="5391360" cy="5761080"/>
          </a:xfrm>
          <a:prstGeom prst="rect">
            <a:avLst/>
          </a:prstGeom>
          <a:ln w="0">
            <a:noFill/>
          </a:ln>
        </p:spPr>
      </p:pic>
      <p:cxnSp>
        <p:nvCxnSpPr>
          <p:cNvPr id="771" name="Straight Arrow Connector 9"/>
          <p:cNvCxnSpPr/>
          <p:nvPr/>
        </p:nvCxnSpPr>
        <p:spPr>
          <a:xfrm>
            <a:off x="2090520" y="3230640"/>
            <a:ext cx="1532520" cy="169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772" name="Title 1"/>
          <p:cNvSpPr/>
          <p:nvPr/>
        </p:nvSpPr>
        <p:spPr>
          <a:xfrm>
            <a:off x="54000" y="4772160"/>
            <a:ext cx="2036880" cy="14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rmAutofit/>
          </a:bodyPr>
          <a:p>
            <a:pPr marL="343080" indent="-343080" algn="ctr">
              <a:lnSpc>
                <a:spcPct val="9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2060"/>
                </a:solidFill>
                <a:latin typeface="Verdana"/>
                <a:ea typeface="Verdana"/>
              </a:rPr>
              <a:t> </a:t>
            </a:r>
            <a:r>
              <a:rPr b="0" lang="lv-LV" sz="1600" spc="-1" strike="noStrike">
                <a:solidFill>
                  <a:srgbClr val="ff0000"/>
                </a:solidFill>
                <a:latin typeface="Verdana"/>
                <a:ea typeface="Verdana"/>
              </a:rPr>
              <a:t>!</a:t>
            </a:r>
            <a:r>
              <a:rPr b="1" lang="lv-LV" sz="1600" spc="-1" strike="noStrike">
                <a:solidFill>
                  <a:srgbClr val="002060"/>
                </a:solidFill>
                <a:latin typeface="Verdana"/>
                <a:ea typeface="Verdana"/>
              </a:rPr>
              <a:t> Studiju vizīte </a:t>
            </a:r>
            <a:r>
              <a:rPr b="0" lang="lv-LV" sz="1600" spc="-1" strike="noStrike">
                <a:solidFill>
                  <a:srgbClr val="002060"/>
                </a:solidFill>
                <a:latin typeface="Verdana"/>
                <a:ea typeface="Verdana"/>
              </a:rPr>
              <a:t>ir </a:t>
            </a:r>
            <a:r>
              <a:rPr b="0" lang="lv-LV" sz="1600" spc="-1" strike="noStrike">
                <a:solidFill>
                  <a:srgbClr val="ff0000"/>
                </a:solidFill>
                <a:latin typeface="Verdana"/>
                <a:ea typeface="Verdana"/>
              </a:rPr>
              <a:t>cits projektu veids (seminārs 06.09.24.)</a:t>
            </a:r>
            <a:br>
              <a:rPr sz="1600"/>
            </a:br>
            <a:r>
              <a:rPr b="0" lang="lv-LV" sz="16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73" name="Straight Arrow Connector 12"/>
          <p:cNvCxnSpPr/>
          <p:nvPr/>
        </p:nvCxnSpPr>
        <p:spPr>
          <a:xfrm>
            <a:off x="1662120" y="5106600"/>
            <a:ext cx="1961280" cy="83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20T14:46:47Z</dcterms:created>
  <dc:creator>Dagnija</dc:creator>
  <dc:description/>
  <dc:language>en-US</dc:language>
  <cp:lastModifiedBy>Linards Deidulis</cp:lastModifiedBy>
  <cp:lastPrinted>2023-09-06T10:38:28Z</cp:lastPrinted>
  <dcterms:modified xsi:type="dcterms:W3CDTF">2024-09-05T13:12:12Z</dcterms:modified>
  <cp:revision>179</cp:revision>
  <dc:subject/>
  <dc:title>PowerPoint Presentation</dc:title>
</cp:coreProperties>
</file>