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2AE9-9BF3-48E7-85B0-4DBB8FDFBD74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Fédération Internationale de Natation, F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B246-907F-4489-9BEF-ABB6205C02B5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tauriņstils, uz muguras, brass, brīvais st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CD97-2D97-40A2-8A81-D7A3050471F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garajā basein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30DF-43CD-43A5-ACAB-90D4CED704DE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*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A97A-F2A9-4B27-99A8-6E4239521627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EE41-D73E-4005-83CA-A74D41DB1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B5CD-0A3B-4E98-BB0F-E6D71B4A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C7D8-8BB3-4CC4-BC61-030FA10E5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7B2B-2D14-4201-B5C0-6DE730E11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5FB5-4E15-4085-92C3-16C884CA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CFE6-B4B6-4146-8416-6AAFC6FF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662C-BF7A-41E8-80CA-65BE2867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F3A4-5E60-449B-BDB9-AB699DAA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6E35-2672-4DCA-81C4-56C36E2A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35B0-1C98-4824-BD1D-FEC98D21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D722-E77C-47CB-9C27-547F3A59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37EE-02BC-4385-AC5D-9B07A0C8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6820-215D-4B01-AD51-C8FC40A1A487}" type="datetime">
              <a:rPr b="0" lang="lv-LV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3E5F-CD7C-431D-9762-7923403D1AFD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b7dee8"/>
                </a:solidFill>
                <a:latin typeface="Calibri"/>
              </a:rPr>
              <a:t>Sporta peld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ēšanas veid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rauls uz krūtī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rauls uz mugur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auriņst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435640" y="1413000"/>
            <a:ext cx="27162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ešanas sporta vei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ldēšana ir ir ūdens sporta veids, ko starptautiski pārvalda Starptautiskā Peldēšanas federācija (), kas dibināta 1908. gad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porta sacensībās peldēšanā uzvar tas, kurš uzstāda labāko lai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censības baseinos noteik 50-1500 metrus garās distancē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acensiba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censības peldēšanā notiek četros veidos: brīvajā stilā, uz muguras, brasā un tuariņstil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mpleksajā peldējumā ir noteikta veidu secība 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īvajā stilā tiek tiek izmantots visātrākais peldēšanas veids — krauls uz krūtī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acensību vēstū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ldēšana ir ir iekļauta Olimpiskajās spēlē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pš 1896. gada Atēnu Olimpiskajām spēlēm vīrieš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pš 1912. gada Stokholmas Olimpiskajām spēlēm sievietē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1890. gada teik rīkots Eiropas čempion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1973. gada tiek rīkots Pasaules čempionāts 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ēšana citos sporta vei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odernajā pieccīņā  200 m brīvajā stilā (līdz 2000. gada Olimpiskajām spēlēm distance bija 300 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rialonā  1500 m brīvajā stilā (vidējā jeb Olimpiskā dist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Ūdenspo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0T11:37:20Z</dcterms:created>
  <dc:creator>User</dc:creator>
  <dc:description/>
  <dc:language>en-US</dc:language>
  <cp:lastModifiedBy>User</cp:lastModifiedBy>
  <dcterms:modified xsi:type="dcterms:W3CDTF">2017-04-15T08:45:36Z</dcterms:modified>
  <cp:revision>12</cp:revision>
  <dc:subject/>
  <dc:title>Peldēšanas veidi</dc:title>
</cp:coreProperties>
</file>