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1BF3-C753-4983-98A1-FEF422F6F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1647-B736-45A9-ACE6-71D7B6D6E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B020-7A7E-434B-A641-1137FA071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4959-2D0D-4DBC-804F-C00816981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F8263-ACAD-42BD-8F38-B5AF7745B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37DE0-00D6-4093-B3B0-904389584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F787B-E5C7-417B-9CD8-332348B9F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99ED0-7452-4DF8-9437-8C7B61C4E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5F317-F6B2-4D43-BA8D-63A4310C0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7C092-9098-494F-AD68-7ABDD7F21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623A2-0BDE-4D04-8EB6-9B22E1CFC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E089-335B-4548-B404-63D7687DF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2DDA0-3943-4EA4-B632-E139A8BB8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9C981-5D17-4B9B-95D6-11D4C9B68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6A282-3CAE-4E16-829E-286AA5174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29CD2-B6D7-4DEB-9B58-7ECE64128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F4C00-4353-4B41-9956-6C177AC6B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6B94-8CAD-47F0-A4A4-364AE15E8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5FDC-0011-4756-8C10-2954038C9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6B5F-BDC5-4463-80BE-EC026020C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47B8-BFD2-4742-9190-6D995007A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29B9-5931-40E5-8454-A71E6CEC0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856A-15B8-46F1-97B7-4FD0568DC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593C-E548-466E-84DB-3859FC25B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0EEC6-3485-4A46-AD2F-0A73C52B5623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http://www.vilani.lv/images/vilanu-novads.png"/>
          <p:cNvPicPr/>
          <p:nvPr/>
        </p:nvPicPr>
        <p:blipFill>
          <a:blip r:embed="rId2"/>
          <a:stretch/>
        </p:blipFill>
        <p:spPr>
          <a:xfrm>
            <a:off x="8101080" y="189000"/>
            <a:ext cx="738000" cy="868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8B033-3059-466A-9384-ECC6E53D0022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vilanunovads.lv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alibri"/>
              </a:rPr>
              <a:t>Viļānu nov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vilanunovads.l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Content Placeholder 3" descr=""/>
          <p:cNvPicPr/>
          <p:nvPr/>
        </p:nvPicPr>
        <p:blipFill>
          <a:blip r:embed="rId1"/>
          <a:stretch/>
        </p:blipFill>
        <p:spPr>
          <a:xfrm>
            <a:off x="450720" y="1584360"/>
            <a:ext cx="824256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1619280" y="474840"/>
            <a:ext cx="5838840" cy="5878440"/>
          </a:xfrm>
          <a:prstGeom prst="rect">
            <a:avLst/>
          </a:prstGeom>
          <a:ln w="0">
            <a:noFill/>
          </a:ln>
        </p:spPr>
      </p:pic>
      <p:sp>
        <p:nvSpPr>
          <p:cNvPr id="88" name="Left Arrow 4"/>
          <p:cNvSpPr/>
          <p:nvPr/>
        </p:nvSpPr>
        <p:spPr>
          <a:xfrm rot="19945800">
            <a:off x="347400" y="3485880"/>
            <a:ext cx="1368360" cy="752400"/>
          </a:xfrm>
          <a:prstGeom prst="leftArrow">
            <a:avLst>
              <a:gd name="adj1" fmla="val 50000"/>
              <a:gd name="adj2" fmla="val 50005"/>
            </a:avLst>
          </a:prstGeom>
          <a:solidFill>
            <a:srgbClr val="00b050"/>
          </a:solidFill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latība km</a:t>
            </a:r>
            <a:r>
              <a:rPr b="0" lang="lv-LV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vada teritorija atrod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Latgales augstienes rietumu un ziemeļrietumu nogāz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ustrumlatvijas zemien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Kultūras pieminekļ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http://vilani.lv/images/news/201401/horizontal/tsmtv9584s.jpg?v=1455621670"/>
          <p:cNvPicPr/>
          <p:nvPr/>
        </p:nvPicPr>
        <p:blipFill>
          <a:blip r:embed="rId1"/>
          <a:stretch/>
        </p:blipFill>
        <p:spPr>
          <a:xfrm>
            <a:off x="1187280" y="4292640"/>
            <a:ext cx="6553440" cy="2286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599840"/>
            <a:ext cx="8229600" cy="34131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vadā atrodas vienpadsmit valsts aizsargājamie kultūras pieminekļi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ieci arhitektūr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eši arheoloģij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eviņi no tiem ir valsts nozīm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https://upload.wikimedia.org/wikipedia/lv/thumb/f/fc/Malta_pie_Vi%C4%BC%C4%81niem.jpg/260px-Malta_pie_Vi%C4%BC%C4%81niem.jpg"/>
          <p:cNvPicPr/>
          <p:nvPr/>
        </p:nvPicPr>
        <p:blipFill>
          <a:blip r:embed="rId1"/>
          <a:stretch/>
        </p:blipFill>
        <p:spPr>
          <a:xfrm>
            <a:off x="4211640" y="1700280"/>
            <a:ext cx="4321080" cy="32414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U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9640" y="1628640"/>
            <a:ext cx="8136000" cy="39934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ltas u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lm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Tiskā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citas mazās upītes</a:t>
            </a:r>
            <a:br>
              <a:rPr sz="3200"/>
            </a:b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(Kaževa, Varakļānu</a:t>
            </a:r>
            <a:br>
              <a:rPr sz="3200"/>
            </a:b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trauts, Notra,</a:t>
            </a:r>
            <a:br>
              <a:rPr sz="3200"/>
            </a:b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perga, Lauza, u.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Ezeru izvietoju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01T16:03:58Z</dcterms:created>
  <dc:creator>User</dc:creator>
  <dc:description/>
  <dc:language>en-US</dc:language>
  <cp:lastModifiedBy>User</cp:lastModifiedBy>
  <dcterms:modified xsi:type="dcterms:W3CDTF">2016-10-26T09:11:09Z</dcterms:modified>
  <cp:revision>12</cp:revision>
  <dc:subject/>
  <dc:title>Viļānu novads</dc:title>
</cp:coreProperties>
</file>