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A3EBD-AC64-4B0F-A991-C3B5B892B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9B2FA-F2AA-4267-B65B-127FC76B9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5F4C6-C8C2-44F7-A1E4-5AFFB3C50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A2023-EF2F-43A9-BB36-3EEFEBA5E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87348-7FB0-4A89-A93C-33E8A9BC9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BAE1B-1372-49A1-8BF8-4450B69F1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8BF2E-502E-43DE-A043-18E834AD4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630DA-04ED-4C80-B972-187636128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0B5AE-58C7-46BD-8A12-9764C5484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151F1-C4F6-4C8F-B314-9C708E30C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6FCB2-D603-4C1C-84E2-21238B731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538D9-7EDC-47FA-95FE-1536714A8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7367C-F8A8-40FF-86A7-EB46E8EC63A7}" type="slidenum">
              <a:rPr b="0" lang="lv-LV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mailto:rita.birzina@lu.lv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000000"/>
                </a:solidFill>
                <a:latin typeface="Tahoma"/>
              </a:rPr>
              <a:t>Power Point programmas izmantoš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Rita Birziņ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LU Bioloģijas fakultā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20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47240" y="2278080"/>
            <a:ext cx="7410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000000"/>
                </a:solidFill>
                <a:latin typeface="Arial"/>
              </a:rPr>
              <a:t>Prezentācijas lai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47240" y="2278080"/>
            <a:ext cx="7410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000000"/>
                </a:solidFill>
                <a:latin typeface="Arial"/>
              </a:rPr>
              <a:t>Prezentācijas vie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38280" y="181080"/>
            <a:ext cx="730080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990033"/>
                </a:solidFill>
                <a:latin typeface="Arial"/>
              </a:rPr>
              <a:t>Prezentācijas izmantošanas </a:t>
            </a:r>
            <a:br>
              <a:rPr sz="3200"/>
            </a:br>
            <a:r>
              <a:rPr b="0" lang="lv-LV" sz="3200" spc="-1" strike="noStrike">
                <a:solidFill>
                  <a:srgbClr val="990033"/>
                </a:solidFill>
                <a:latin typeface="Arial"/>
              </a:rPr>
              <a:t>negatīvais aspekts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Neveicina labprātīgas diskusijas veidošanos klas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Nevar brīvi darboties ar teks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vispārējie nosacījumi (6x6) ierobež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ja vajag pasniegt plaša apjoma informāciju, nepieciešams daudz slaid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ātra slaidu caurskatīšana prezentācijas laikā nepadara prezentāciju vērtīgāk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852560" y="0"/>
            <a:ext cx="667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990033"/>
                </a:solidFill>
                <a:latin typeface="Tahoma"/>
              </a:rPr>
              <a:t>Prezentācijas izmantošanas </a:t>
            </a:r>
            <a:br>
              <a:rPr sz="3200"/>
            </a:br>
            <a:r>
              <a:rPr b="0" lang="lv-LV" sz="3200" spc="-1" strike="noStrike">
                <a:solidFill>
                  <a:srgbClr val="990033"/>
                </a:solidFill>
                <a:latin typeface="Tahoma"/>
              </a:rPr>
              <a:t>negatīvais aspekts 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3280" y="12636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Ir viegli kļūt par prezentācijas vadītāja aizstājēju, nevis palīgspēku. Vizuālā līdzekļa vietā runātājs pats kļūst par audio līdzekli slaid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tiek pievērsta pārāk liela uzmanība slaida struktūrai. Skaidra uzbūve ir raksturīga verbālai prezentācijai, pat ja tiek izmantoti vizuālie līdzekļ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bieži vien neizdodas nodibināt nepieciešamo saikni ar auditoriju, kas tomēr ir svarīga, lai padarītu ziņojumu atmiņā paliekoš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vairāk pievēršas slaida vizualizācijai, cenšoties nodibināt saikni ar klausītājiem, bet tajā pašā laikā  palaiž garām iespēju atkārtot, izmantojot, piemēram, metaforas un citus līdzekļus, lai padarītu prezentāciju par atmiņā paliekoš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bieži vien neizdodas radīt personisko iespaid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000000"/>
                </a:solidFill>
                <a:latin typeface="Arial"/>
              </a:rPr>
              <a:t>Paldies par uzmanību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178000" y="1041480"/>
            <a:ext cx="457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Times New Roman"/>
              </a:rPr>
              <a:t>Rita Birziņ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Latvijas Universitā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Bioloģijas fakultā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Kronvalda bulv. 4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Rīga, LV-1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rita.birzina@lu.l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2165400" y="3409920"/>
            <a:ext cx="6572160" cy="26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213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400" spc="-1" strike="noStrike">
                <a:solidFill>
                  <a:srgbClr val="990033"/>
                </a:solidFill>
                <a:latin typeface="Tahoma"/>
              </a:rPr>
              <a:t>Nodarbības mērķi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Ko es zinu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kas ir prezentāci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kādu programmu izmanto tās veidošana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kā to darī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vai ir apgūtas datora lietošanas pamatpras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270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Ko es gribētu uzzinā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veidošanas nosacījum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prezentācijas komponenti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tek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f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krāsu saskaņotīb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tabul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diagramm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attēl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animācijas un hipersai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kā izmantot klas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"/>
          <p:cNvGraphicFramePr/>
          <p:nvPr/>
        </p:nvGraphicFramePr>
        <p:xfrm>
          <a:off x="555480" y="334800"/>
          <a:ext cx="80899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5480" y="334800"/>
                    <a:ext cx="80899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133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400" spc="-1" strike="noStrike">
                <a:solidFill>
                  <a:srgbClr val="990033"/>
                </a:solidFill>
                <a:latin typeface="Tahoma"/>
              </a:rPr>
              <a:t>Kas ir prezentācija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14280" y="1019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Prezentācijas mērķis ir komunikāci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Prezentāciju veid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motivējoša (lai pārliecināt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instruktīva/apmācoša (sagatavošana uzdevuma izpildei, demonstrējuma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informatī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par noteiktu tēm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pārskat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9240" y="5662440"/>
            <a:ext cx="82738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uidelines for preparing effective presentations</a:t>
            </a:r>
            <a:r>
              <a:rPr b="0" lang="lv-LV" sz="1200" spc="-1" strike="noStrike">
                <a:solidFill>
                  <a:srgbClr val="000000"/>
                </a:solidFill>
                <a:latin typeface="Arial"/>
              </a:rPr>
              <a:t>. ENAR http://www.enar.org/presentationguidelines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Arial"/>
              </a:rPr>
              <a:t>Marina Canapero. Guidelines for Scientific Presentations. http://claweb.cla.unipd.it/home/mcanapero/presentation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589640" y="3808440"/>
            <a:ext cx="3806640" cy="157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"/>
          <p:cNvGraphicFramePr/>
          <p:nvPr/>
        </p:nvGraphicFramePr>
        <p:xfrm>
          <a:off x="4313160" y="184320"/>
          <a:ext cx="4106880" cy="558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13160" y="184320"/>
                    <a:ext cx="4106880" cy="558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60160" y="324000"/>
            <a:ext cx="2971800" cy="258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400" spc="-1" strike="noStrike">
                <a:solidFill>
                  <a:srgbClr val="990033"/>
                </a:solidFill>
                <a:latin typeface="Tahoma"/>
              </a:rPr>
              <a:t>Efektīvas prezentācijas izveides nosacījumi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1360" y="184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400" spc="-1" strike="noStrike">
                <a:solidFill>
                  <a:srgbClr val="990033"/>
                </a:solidFill>
                <a:latin typeface="Tahoma"/>
              </a:rPr>
              <a:t>Prezentācijas ilgum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11120" y="123300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Vidējais uzmanības noturīguma līmenis pieaugušajiem ir 20 minūt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Pirmās 20 minūtēs viņi sekos līdzi prezentācijai, bet pēc tam sāks garlaikoties vai darīt ko cit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Lai piesaistītu uzmanību, jāpiedāvā iespēja atpūsties, ko var izdarī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600" spc="-1" strike="noStrike">
                <a:solidFill>
                  <a:srgbClr val="000000"/>
                </a:solidFill>
                <a:latin typeface="Arial"/>
              </a:rPr>
              <a:t>pastāstot kādu notikumu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600" spc="-1" strike="noStrike">
                <a:solidFill>
                  <a:srgbClr val="000000"/>
                </a:solidFill>
                <a:latin typeface="Arial"/>
              </a:rPr>
              <a:t>parādot demonstrējum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Vai arī darot kaut ko tādu, kas ļauj smadzenēm atpūsties. Tikai nevajag pārspīlēt ar atpūtas ilgumu, jo tā garāka, jo grūtāk atkal sasparoties nopietnam darba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Vienā minūtē iespējams parādīt 1-2 slaidu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Konferencēs ieteicams plānot - 15 minūtes uzstāšanās laiks </a:t>
            </a:r>
            <a:br>
              <a:rPr sz="2000"/>
            </a:b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+ 5 minūtes – atbildes uz jautājumie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78200" y="5826240"/>
            <a:ext cx="82227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400" spc="-1" strike="noStrike">
                <a:solidFill>
                  <a:srgbClr val="000000"/>
                </a:solidFill>
                <a:latin typeface="Arial"/>
              </a:rPr>
              <a:t>Brad Vander Zanden. Preparing an Effective Presentation. http://www.cs.utk.edu/~bvz/presentation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400" spc="-1" strike="noStrike">
                <a:solidFill>
                  <a:srgbClr val="990033"/>
                </a:solidFill>
                <a:latin typeface="Tahoma"/>
              </a:rPr>
              <a:t>Slaida struktūra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Tek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F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Grafiskais piedāvāju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tabul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diagram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attē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zīmējum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Hipersai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Animācijas efek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47240" y="2278080"/>
            <a:ext cx="7410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000000"/>
                </a:solidFill>
                <a:latin typeface="Arial"/>
              </a:rPr>
              <a:t>Prezentācijas elemen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47240" y="2278080"/>
            <a:ext cx="7410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000000"/>
                </a:solidFill>
                <a:latin typeface="Arial"/>
              </a:rPr>
              <a:t>Prezentācijas objek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4T13:51:05Z</dcterms:created>
  <dc:creator> </dc:creator>
  <dc:description/>
  <dc:language>en-US</dc:language>
  <cp:lastModifiedBy>Viesturs</cp:lastModifiedBy>
  <dcterms:modified xsi:type="dcterms:W3CDTF">2008-12-02T14:55:44Z</dcterms:modified>
  <cp:revision>134</cp:revision>
  <dc:subject/>
  <dc:title>Slide 1</dc:title>
</cp:coreProperties>
</file>