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B600-4402-4AD6-AE1A-A077B9F98DB5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DC3A-E0B1-4557-86FA-82E3741F43F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78D4-5470-44B3-AA28-8FC4676EAA5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690E-8B58-4CB4-A83C-C4A9A990E73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6786-6E13-4884-AC1F-074E1CC631A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50BB-5EB0-4414-8551-17585FEA3DF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11C1-505D-4EA0-864E-4F2D2ADE10D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492F-4415-4963-BA6C-6DF6AE4D5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0AE7-D80C-4FA0-8080-A14A18C8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9BC6-B262-4183-BE6D-685DDC98B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B1DD-92FE-400E-B34F-432736AEF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F236-B99A-4E11-8F6E-B2977D6F3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479E-1153-470C-858C-838C65F7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358C-4239-4A44-A4B9-D25EFEC8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6F71-E6AD-4F4F-82D1-ED16DD3A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607A-5E74-4BE0-99BC-66978412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933D-E0A4-4B8F-A66A-EBAFFB9E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7386-A74F-4B69-9902-06115865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A1E7-3D03-4D3D-AD04-E4700958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3A15-8CB6-416C-B821-1E8ECFBA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63C8-006D-4A76-BFE4-A0F85FE3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039D-9B31-4747-8064-7B79AD29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37FD-60F3-4886-8B1E-C9DBCBD0C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33BE-B83B-4D5C-BF15-00B8FADAC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B1FE-4431-4785-9374-41124948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D69E-AAA1-4445-9865-5D495FA2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7595-5EEE-4E85-92CA-9794F90C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DD78-FB2D-4B64-91F1-80DD23DE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10F3-15FE-4705-8685-D061186A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E49B-3080-402E-909D-88C895F9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B93F-08C6-42B5-A67A-CAD60436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CA87-F95D-43AB-ADD4-49CEF4DF1EF7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7BD5-2B58-4628-9A61-4CB7E048DC6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VIDUS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9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4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AS IR DARBA DEVĒJ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ējs, uzņēmuma īpašniek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uma valdes loceklis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Vadītājs (uzņēmuma, nodaļas, filiāles)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ersonāla daļas speciālist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iCLIPART, silhouettes, women, men, people, teamwork, plannings, leaders, brainstorming, community, cooperation, lifestyle, city, business concepts, corporate"/>
          <p:cNvPicPr/>
          <p:nvPr/>
        </p:nvPicPr>
        <p:blipFill>
          <a:blip r:embed="rId1"/>
          <a:srcRect l="0" t="24131" r="0" b="8420"/>
          <a:stretch/>
        </p:blipFill>
        <p:spPr>
          <a:xfrm>
            <a:off x="2124000" y="4221000"/>
            <a:ext cx="34164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155736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7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12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3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8T14:24:03Z</dcterms:modified>
  <cp:revision>346</cp:revision>
  <dc:subject/>
  <dc:title>Slide 1</dc:title>
</cp:coreProperties>
</file>