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FA6-A1BD-4FB3-A0BA-1483B958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3A9C-C5AC-4E9E-B493-227AEEB5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CBF855-1B8E-4D8B-9F17-666EE7158E8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72EB8B-8608-4C01-B275-437629E2A91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529605-7C34-4E2E-9573-1EFC98EAC6C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EF6050-2E0F-48CD-AECE-38B6E0FA633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AD5108-1D57-4EFA-ACEE-99C7BE595DB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3F2080-D650-415F-AE17-3A307AA8E46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6810CE-D7DF-4C92-B688-6842561C9B2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2AF632-8BE1-4430-9ABD-60614B801A5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1918FE-08F6-4176-95E5-B30B04B8B70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70D-11CB-4886-992F-8416B654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C7ED-60EF-4D39-8C49-B6AA0990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C6E-9F4E-4D5B-9140-7D3764AC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BAF75-4027-43A7-9FF7-978EE2155C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BC357-7B39-455E-9A77-81ACD7523F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B1E53-2C3B-4069-AE78-22921D0F94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F37BF-EDD1-4731-A5D9-E5E741BD61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EF91D-8CC4-4A69-9603-8AEC4823FC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C21-B02E-4AA4-8E3F-EAB19A6B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D7C82-18F4-4419-B27A-9488B03F0C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05D21-D911-4FF7-BC9E-377CBEE528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92331-1AB3-4723-B401-4865B16663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CCC09-E372-4060-AC91-E61085B0F5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FD871-959C-4551-B52F-590CBF5FD1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D7095-D6C2-4210-BE84-97E19A36BC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C8DD9-273A-4B93-BF7D-052080AA4C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FEA15-5403-4340-9497-AFD2EDD8C6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A2FA8-A9A1-4E02-85DC-AAE7DCE332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23AD6-2430-4859-8256-66F3C1EC1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D1A-E787-4D9E-9D5B-C4EFEC00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635F9-FEED-413A-8AC8-D67F8FFF1F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94CCD-6465-4396-AAF0-7EDF2BA339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01D39-32DB-4065-9251-CB188A1597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EDB9A-A54C-458C-8A8D-CA1E83B5C3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45BEE-EB70-45DC-9833-378486D5DFD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21398-136C-402B-B5FC-79948B9181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72CF8-8253-4345-803D-8F296A7356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00426-5FE1-478A-8AE1-90C4128026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56529-64D8-4AC2-873D-3EFEED5C7A4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50BF-B89A-44F1-8C12-5238A1F42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DFDD-3E87-4280-8B2A-9325B1A6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75AD-D6F0-4A2C-9BFE-56880449982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D290-AABD-4532-9BDA-83ECF421E8D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181D-5CD3-4B3C-B715-F35323D521E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AA95-72A6-4E0C-8BF3-EFD41BC2691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F725-DCD9-46CA-B700-9CB895ADDD7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80B8-4CEA-4754-9ED6-3A699A2E677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0951-8F15-4F30-AF60-A8910764A18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3BA0-649F-4672-A859-4C135AB3C8F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E1EC-AAB9-4B6C-9754-6FC47215E38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D363-9012-4EEC-9315-FA3B92003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FA5-E1A1-4ACA-ACED-2325CAF0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2341-658E-4617-B971-9CFD2488B67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2A33B1-A047-4F8D-A6FA-B2A4A102D01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4288E5-6027-4FDE-A44C-53B2A8B2EEA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6D88A7-E3D4-45D1-8558-5B33E3FE9CF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857F0B-83C8-414B-943C-02CB6DCEE9F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9868C4-24DB-41A8-9E66-F974FC30A4D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259535-BAD3-46D7-A18F-A2474F00BAB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B4DFD3-45A0-4804-AE4D-9ED63C752D2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67D673-C853-48BB-A16D-743FD060764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F780A2-858A-4A7F-8D41-234293D37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893-459F-410C-B4A6-CEA3D419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9C1812-5E42-4BDC-802E-9A28456306E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2B8FD9-B722-463A-8AAF-20FBEAF248B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543FCC-471B-401F-9F51-C7358B4E2CB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E3CF0-EFF3-4E42-9953-0791A4A5635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D0C4D-FB41-47AD-8C30-639164EE657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34C8A-3801-426C-BB2A-A784511FEA8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E6F693-6ADC-43D7-A753-71F7B528252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80DD7-F100-4049-A039-78C863ABC2E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82778-388C-4A3A-ACB2-2A6E1F703FE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57292-4739-4FD0-82E0-94967C6EA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B52-E3C7-4C4C-90DB-53349372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BF7FC-DFB6-4145-BC88-3F5846A7F5D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EC867-8594-4CF3-8D61-CD9F8658163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3C353-7007-4B97-B14B-DF490354D8F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D18FF8-5D06-45CF-A9DA-B6C5BE24797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E5924-9EAF-4077-951B-FB620905419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FAF43-98EA-40BD-801F-07A5696DF6E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4B261-9907-4B5D-BDCB-9C411668F5B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12539-76DE-4E2D-894D-23FA0350346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FB5DB-94F9-442C-B812-7AB64D8FB26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5A8C2-044E-41F0-A43E-C3720599B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7372-1E4E-478B-A776-A6F68E2C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4E3F3-19AA-4C1F-82E1-E87F7951CD6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6A9E2-F792-491B-870F-6ABD972BF08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96B6-50AD-4145-AF1A-0B7F193A860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E20B5-D733-46D5-B1F3-A89694E31EF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135EC-4666-4C50-94B3-1D98E9D2099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2EAD5-562C-471E-B879-0366C8630BD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6D62A-0FBC-426D-A6B9-505D676B559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3FB665-77B2-41A7-A051-4C6832C0D67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20E0F4-C106-4DA9-BF07-0954459E6CC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07F312-1C40-43E1-AA00-F15DABF34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2EB768C-DFBB-4754-BA09-1AFB20B6001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7C5C4D-E598-4214-9D71-7A61E022B4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9ED333-1B5F-4534-A46E-0E6D7E18D34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0361941-C28C-43C6-B06A-9D70DE7EBEC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8025136-530F-4F3C-8A8B-A7008A791D4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4400C16-B931-4155-A559-6229656CD47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D031943-405F-413D-8066-B77922B1301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234F4A7-C0E1-4F2E-9805-534B8A24277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5E3342D-3410-4BED-9E10-33FD943F111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aija.Bundule@lza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-era.net/joint-call-2016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9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–                       2016.gada projektu konkurs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projek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733040" y="1752120"/>
            <a:ext cx="695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mērķ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ordinēt “M.ERA-Net” projekta konsorcija dalībnieku sadarbību materiālzinātņu un inženierzinātņu jomā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uzdevum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pīgu projektu konkursu organizēš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darbības laiks: 1.03.2016.-28.02.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koordinators – Austrijas Zinātnes fonds (Austrij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atviju pārstāv Valsts izglītības attīstības aģentūra, kontaktpersonas:  Dr. Maija Bundule, tel. 67785423, e-pasts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Maija.Bundule@viaa.gov.lv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DAA5FE-F737-4743-8384-F3835E5FC60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Bild 1" descr=""/>
          <p:cNvPicPr/>
          <p:nvPr/>
        </p:nvPicPr>
        <p:blipFill>
          <a:blip r:embed="rId2"/>
          <a:stretch/>
        </p:blipFill>
        <p:spPr>
          <a:xfrm>
            <a:off x="730872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46400" y="380880"/>
            <a:ext cx="64404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projekta dalībnie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14000" y="1752120"/>
            <a:ext cx="73724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 Eiropas 41 zinātni finansējoša organizācija pārstāvot 23 Eiropas valst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aivānas Zinātnes un tehnoloģija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ievijas inovācij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ienvidkorejas pētniecīb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zīlijas Izglītības un zinātne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F3607B7-8FF8-46AC-A528-4F610C7356E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Bild 1" descr=""/>
          <p:cNvPicPr/>
          <p:nvPr/>
        </p:nvPicPr>
        <p:blipFill>
          <a:blip r:embed="rId1"/>
          <a:stretch/>
        </p:blipFill>
        <p:spPr>
          <a:xfrm>
            <a:off x="745488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776240" y="1752120"/>
            <a:ext cx="6910560" cy="3899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onkursa tematik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ed computational materials engineering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novative surfaces, coatings and interfac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igh performance synthetic and bio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ased composit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unctional material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faces between materials and biological hosts for health application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ls for additive manufactu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0B55ED-CD83-475C-8869-7B3E5A42A2B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ild 1" descr=""/>
          <p:cNvPicPr/>
          <p:nvPr/>
        </p:nvPicPr>
        <p:blipFill>
          <a:blip r:embed="rId1"/>
          <a:stretch/>
        </p:blipFill>
        <p:spPr>
          <a:xfrm>
            <a:off x="7607160" y="3348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95440" y="380880"/>
            <a:ext cx="62913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34680" y="1684080"/>
            <a:ext cx="827388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Konkursam var iesniegt projektus ar īstenošanas ilgumu līdz trīs gad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a konsorcija minimālais sastāvs: trīs dalībnieki no vismaz divām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Informācija par konkursu atrodama projekta mājas lapā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www.m-era.net/joint-call-2016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Latvijas dalībnieki var plānot projekta izdevumus līdz 70 000 EUR/gadā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Partner</a:t>
            </a:r>
            <a:r>
              <a:rPr b="1" lang="lv-LV" sz="1900" spc="-1" strike="noStrike">
                <a:solidFill>
                  <a:srgbClr val="000000"/>
                </a:solidFill>
                <a:latin typeface="Verdana"/>
                <a:ea typeface="Verdana"/>
              </a:rPr>
              <a:t>u meklēšanas instrumenti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PTeAm3 piedāvā partneru meklēšanas instrumentu interneta vietnē  https://www.nmp-partnersearch.eu/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pas Uzņēmumu tīkla (EEN, </a:t>
            </a:r>
            <a:r>
              <a:rPr b="0" i="1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prise Europe Networ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ības vietne internetā http://een.ec.europa.eu/tools/services/SearchCenter/Search/ProfileSimpleSearch?shid=32db25cb-726f-43b0-8b5f-7742d0935799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AF2A403-2950-4CB2-997C-63A53E8F219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Bild 1" descr=""/>
          <p:cNvPicPr/>
          <p:nvPr/>
        </p:nvPicPr>
        <p:blipFill>
          <a:blip r:embed="rId2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93760" y="1752120"/>
            <a:ext cx="7493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notiks divās kārtā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mājas lapa www.m-era.net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atvērts 2016.gada 15.mar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ideju iesniegšanas termiņš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016.gada 14.jūnij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lno projektu iesniegšanas termiņš – 2016.gada 10.novembri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ēmums par atbalstāmajiem projektiem  2017.gada 24.janvār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5A2F748-0A6C-41C1-BF94-D5B24C1B47C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Bild 1" descr=""/>
          <p:cNvPicPr/>
          <p:nvPr/>
        </p:nvPicPr>
        <p:blipFill>
          <a:blip r:embed="rId1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30:05Z</dcterms:modified>
  <cp:revision>17</cp:revision>
  <dc:subject/>
  <dc:title>PowerPoint Presentation</dc:title>
</cp:coreProperties>
</file>