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F1809-D136-47A2-AB58-5E7E7901F4B1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EED1D-E20C-4E25-93BA-3E89A6265DD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20858-5DC0-44C5-8039-1423423AC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72A14-351C-410F-8129-DAD1E3388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5193C-650D-48DD-AD38-0BDE872E600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Vai parādās kopīgas tend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0C509-EA00-493A-80DF-A081C1AF4D1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26DA2-AAAB-47E2-9F7A-BE270CD7860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6017E-AC3C-4E0C-B8BC-B8B2655271B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9CCCA-D349-436E-B120-09BB31C1885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49FA7-4A01-48AE-B73F-ED7FB35CC3B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3AD92-67A0-4A5F-910E-20165BCAEE4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rāta vēt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57B1D-BE6F-4D63-BD53-D928B451E30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3485-BCB3-4E7F-8E12-9AE2BF423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7DE6-EB99-4ED5-A0B2-39C7683A1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FDD8-1878-4B60-92CB-7081E508A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31EA-0E4F-488D-A985-80776BB06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330A-8E73-4D10-ACA9-BFA78D42F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29A7D-5AE6-450E-82E3-ABFBAF388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CD462-E8EF-4500-87D4-F99D3844B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46AC7-4D38-47F7-B52C-62C49964B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32916-361A-4A88-89B4-A59DB8823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2117C-080C-4E5B-8418-5D098A5A5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6CD3A-1FBF-45DB-ACCA-39D7CE6C0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F1239-1C83-4EC0-BAC9-7E5CAF5C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50FC-8771-4376-97A8-2C803F72E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7ED7E-E2AC-4A4E-95DC-1C02C304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F474A-07A0-435D-8B46-BE017233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F495E-2CEF-4B6A-AB52-C31D578E7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281E3-A0FC-4B71-95FE-B8A52E060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1BD50-4A6C-44D1-A5C6-F1BF223BD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9CE6-39C6-4E57-9D0F-61F2ACD64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C2C8-8AA0-4CC0-9961-02A6AABF1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35AC-4E71-4862-B0B7-AB461E79F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2CB4-1105-40C4-9530-CCA7B3661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DEDF-021D-426E-AE96-21635BCD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D2C1-B9BD-4FA9-BFB2-54CF8770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347F-F8AA-4A5A-BD70-595C6FC4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11244-5F8F-4966-AAC6-152632F235B9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62229-3229-4789-AC11-3C1A13B6D7B0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 iepazīt sev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5.-7.klašu 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avadīšana kopā ar draugi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skarsme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organizēt cit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sadarbo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nfliktu risinā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aust savas idej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BRĪVAJĀ LAIKĀ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vas istabas sakārt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bildības uzņem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beigt iesākto darb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ikt vienveidīgus uzdevum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ivēt se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ūpīgum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IKDIENAS PIENĀKUMO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MANAS INTERES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258920" y="1700280"/>
          <a:ext cx="6769080" cy="1677960"/>
        </p:xfrm>
        <a:graphic>
          <a:graphicData uri="http://schemas.openxmlformats.org/drawingml/2006/table">
            <a:tbl>
              <a:tblPr/>
              <a:tblGrid>
                <a:gridCol w="3589200"/>
                <a:gridCol w="3179880"/>
              </a:tblGrid>
              <a:tr h="1218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darbošanās/uzdevum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 patīk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9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RASMJU ANALĪZ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706320" y="1700280"/>
          <a:ext cx="7993080" cy="1555560"/>
        </p:xfrm>
        <a:graphic>
          <a:graphicData uri="http://schemas.openxmlformats.org/drawingml/2006/table">
            <a:tbl>
              <a:tblPr/>
              <a:tblGrid>
                <a:gridCol w="3218040"/>
                <a:gridCol w="2327040"/>
                <a:gridCol w="2448000"/>
              </a:tblGrid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darbošanās/uzdevum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 patīk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 </a:t>
                      </a:r>
                      <a:r>
                        <a:rPr b="1" lang="lv-LV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doda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7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713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400" spc="-1" strike="noStrike">
                <a:solidFill>
                  <a:srgbClr val="800080"/>
                </a:solidFill>
                <a:latin typeface="Calibri"/>
              </a:rPr>
              <a:t>KĀDĀS PROFESIJĀS NEPIECIEŠAMAS MANAS STIPRĀS PUSES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50920" y="1844640"/>
          <a:ext cx="8713800" cy="1890720"/>
        </p:xfrm>
        <a:graphic>
          <a:graphicData uri="http://schemas.openxmlformats.org/drawingml/2006/table">
            <a:tbl>
              <a:tblPr/>
              <a:tblGrid>
                <a:gridCol w="4357440"/>
                <a:gridCol w="4356360"/>
              </a:tblGrid>
              <a:tr h="946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as stiprās pu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fesijas, kurās tās nepieciešam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ešvalodu zināšan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lks, tulkotājs, skolotājs, diplomāts, gids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893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KTIVITĀTES, KURAS VEICINA </a:t>
            </a:r>
            <a:br>
              <a:rPr sz="3200"/>
            </a:b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PRASMJU ATTĪSTĪBU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4000" y="1483920"/>
            <a:ext cx="864072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Piedalīšanās interešu pulciņos, organizācijās, skolēnu apvienībās un klubos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Piedalīšanās mācību priekšmetu olimpiādēs vai sporta sacensībās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Papildu apmācība un prasmju attīstības kursi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Ikdienas pienākumi ģimenē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Brīvdienu ceļojumi 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Dažādu materiālu sagatavošana, kam nepieciešama informācijas vākšana un atlase, kā arī secinājumu izdarīšana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Runu un prezentāciju sagatavošana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Piedalīšanās grupas darbā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Mūsdienu informācijas tehnoloģiju izmantošana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ES ATTĪSTĪŠU SAVAS INTERESES UN STIPRĀS PUS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50920" y="1700280"/>
          <a:ext cx="8640720" cy="2927160"/>
        </p:xfrm>
        <a:graphic>
          <a:graphicData uri="http://schemas.openxmlformats.org/drawingml/2006/table">
            <a:tbl>
              <a:tblPr/>
              <a:tblGrid>
                <a:gridCol w="2879640"/>
                <a:gridCol w="3600360"/>
                <a:gridCol w="2160720"/>
              </a:tblGrid>
              <a:tr h="823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as stiprās pu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varētu darīt, lai tās attīstī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apņemos darī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1640">
                <a:tc row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rbs ar dator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meklēt fakultatīvās nodarbīb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1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dziļināti apgūt darbu ar </a:t>
                      </a:r>
                      <a:r>
                        <a:rPr b="1" i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d</a:t>
                      </a: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1" i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l</a:t>
                      </a: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un </a:t>
                      </a:r>
                      <a:r>
                        <a:rPr b="1" i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werPoin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2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esaistīties programmēšanas konkurs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1" name="Picture 8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3851280" y="450864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Saprast, kāpēc, plānojot karjeru, svarīgi iepazīt sev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emācīties analizēt savu ikdienas pieredzi, lai labāk apzinātos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zināt veidus, kā attīstīt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24000" y="1452600"/>
            <a:ext cx="868680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āpēc ir svarīgi iepazīt sevi pirms plānot karjer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</a:t>
            </a:r>
            <a:r>
              <a:rPr b="1" lang="de-DE" sz="2600" spc="-1" strike="noStrike">
                <a:solidFill>
                  <a:srgbClr val="1f497d"/>
                </a:solidFill>
                <a:latin typeface="Arial"/>
              </a:rPr>
              <a:t>arjeras plānošana</a:t>
            </a: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s soļ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ur un kā iegūt informāciju par sev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ā analizēt ikdienas pieredz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ā intereses un stiprās puses saistās ar profesijā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ā attīstīt savas intereses un stiprās pu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8000" y="3141360"/>
            <a:ext cx="90360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R SVARĪGI IEPAZĪT SEVI, </a:t>
            </a:r>
            <a:br>
              <a:rPr sz="4000"/>
            </a:b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LĀNOJOT SAVU KARJERU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3" descr="Meitene.png"/>
          <p:cNvPicPr/>
          <p:nvPr/>
        </p:nvPicPr>
        <p:blipFill>
          <a:blip r:embed="rId1"/>
          <a:srcRect l="6868" t="4852" r="3846" b="2960"/>
          <a:stretch/>
        </p:blipFill>
        <p:spPr>
          <a:xfrm>
            <a:off x="4140360" y="1700280"/>
            <a:ext cx="836280" cy="1224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Puika.png"/>
          <p:cNvPicPr/>
          <p:nvPr/>
        </p:nvPicPr>
        <p:blipFill>
          <a:blip r:embed="rId2"/>
          <a:srcRect l="6868" t="4852" r="10714" b="2960"/>
          <a:stretch/>
        </p:blipFill>
        <p:spPr>
          <a:xfrm>
            <a:off x="5148360" y="1700280"/>
            <a:ext cx="772920" cy="1224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Puka_brille.png"/>
          <p:cNvPicPr/>
          <p:nvPr/>
        </p:nvPicPr>
        <p:blipFill>
          <a:blip r:embed="rId3"/>
          <a:srcRect l="6949" t="4852" r="2710" b="2960"/>
          <a:stretch/>
        </p:blipFill>
        <p:spPr>
          <a:xfrm>
            <a:off x="3132000" y="1700280"/>
            <a:ext cx="836640" cy="1224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Meitene_medicina_naked.png"/>
          <p:cNvPicPr/>
          <p:nvPr/>
        </p:nvPicPr>
        <p:blipFill>
          <a:blip r:embed="rId4"/>
          <a:stretch/>
        </p:blipFill>
        <p:spPr>
          <a:xfrm>
            <a:off x="4140360" y="4694400"/>
            <a:ext cx="804600" cy="1309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Puika_inzenieris_naked.png"/>
          <p:cNvPicPr/>
          <p:nvPr/>
        </p:nvPicPr>
        <p:blipFill>
          <a:blip r:embed="rId5"/>
          <a:stretch/>
        </p:blipFill>
        <p:spPr>
          <a:xfrm>
            <a:off x="5135400" y="4708440"/>
            <a:ext cx="1165320" cy="1312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Puka_brille_pavars_naked.png"/>
          <p:cNvPicPr/>
          <p:nvPr/>
        </p:nvPicPr>
        <p:blipFill>
          <a:blip r:embed="rId6"/>
          <a:stretch/>
        </p:blipFill>
        <p:spPr>
          <a:xfrm>
            <a:off x="2771640" y="4708440"/>
            <a:ext cx="12319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103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JĀŅEM VĒRĀ, PLĀNOJOT KARJER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50920" y="1412640"/>
            <a:ext cx="8208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nteresējoties, mēģinot, iesaistoties dažādās aktivitātē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Regulāri pārdomājot, kā ir veicies un apkopojot pieredz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mantojot pašizpētes grāmatas un metodikas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Konsultējoties ar Karjeras konsultantu vai Psiholog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taujājot draugus, ģimeni, radiniekus, skolotāj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IEGŪT INFORMĀCIJU PAR SEVI</a:t>
            </a:r>
            <a:r>
              <a:rPr b="0" lang="lv-LV" sz="36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balances,balancing,boxes,business concepts,businesses,characters,concepts,juggles,juggling,packages,people,precarious"/>
          <p:cNvPicPr/>
          <p:nvPr/>
        </p:nvPicPr>
        <p:blipFill>
          <a:blip r:embed="rId1"/>
          <a:stretch/>
        </p:blipFill>
        <p:spPr>
          <a:xfrm>
            <a:off x="7524720" y="2924280"/>
            <a:ext cx="14400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554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LŪDZIET APKĀRTĒJIEM SNIEGT JUMS ATGRIEZENISKO SAIT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o tu uzskati par manām stiprajām pusēm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as man būt jāattīsta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dā profesijā, tavuprāt, es varētu likt lietā savas stiprās puses? 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3" name="Picture 5" descr="business concepts,businesses,characters,concepts,flowers,gifts,giving,people,presents"/>
          <p:cNvPicPr/>
          <p:nvPr/>
        </p:nvPicPr>
        <p:blipFill>
          <a:blip r:embed="rId1"/>
          <a:srcRect l="0" t="25596" r="0" b="23235"/>
          <a:stretch/>
        </p:blipFill>
        <p:spPr>
          <a:xfrm>
            <a:off x="3059280" y="4508640"/>
            <a:ext cx="324144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UR IKDIENĀ IZPAUŽAS INTERESES, SPĒJAS, RAKSTURA ĪPAŠĪBA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Mācību stundā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tarpbrīž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adarbībā ar klasesbiedriem un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nterešu nodarbībās, hobij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Tiekoties ar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ildot mājas darbu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kdienas pienākumos ģimenē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Brīvajā laikā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...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6" name="Picture 5" descr="business concepts,businesses,characters,concepts,drawings,draws,happy faces,pencils,pens,people,smiley,smiley face,smiley faces,smileys,smilie,smilie face,smilie faces,smilies,smily,smily face,smily faces,smilys,writes,writings"/>
          <p:cNvPicPr/>
          <p:nvPr/>
        </p:nvPicPr>
        <p:blipFill>
          <a:blip r:embed="rId1"/>
          <a:stretch/>
        </p:blipFill>
        <p:spPr>
          <a:xfrm>
            <a:off x="6300720" y="3500280"/>
            <a:ext cx="23749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723960" y="1628640"/>
          <a:ext cx="7016760" cy="431496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inātnisko projektu rakstī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ācijas vākšanas un apkopošana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analizēt iegūto informācij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orprasmes (Word, Excel, Internets u.c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tviešu valodas prasm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cizitā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MĀCĪBĀ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1T08:19:39Z</dcterms:modified>
  <cp:revision>345</cp:revision>
  <dc:subject/>
  <dc:title>Slide 1</dc:title>
</cp:coreProperties>
</file>