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00BC-5E25-451A-BDC6-D2BD58D4A989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1B61-B3FC-4C6E-857F-9584FC94D60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0C69-3B8E-4E9A-9AED-69E55C300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A32E-CA26-4525-85A0-CE6BE409A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BEC6-7B18-4B17-A991-E0FF41FDF08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ai parādās kopīgas tend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2C76-198B-4882-B5B5-DD67983A6F1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02CE-6F99-4C50-AE1F-36BAD0EEBF0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C2C5-E5C8-4191-B97B-8B15957EAE5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153A-5113-4076-ABCB-A2240C7E2FA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AC4A-A463-41FB-AAEC-0247F794F8D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A89E-4A38-4E7A-A63A-DC6CD79325E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rāta vēt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A2BC-5EDC-4774-9379-CEE9D24C7FD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FD86-C981-423B-AEA9-333C47C17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ACB0-2B56-4B1E-BA07-CFDA0DDC6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C926-956B-46C6-8AD7-6CA157C3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D23D-C6BC-483B-93A7-D9A4DA873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05F5-E566-4E5C-8DA7-E03C0CA9D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C0BC-C950-43CB-B814-EF62A7147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F529-F921-40D5-A0F8-8253BC06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92B6-5B65-4116-A3B7-2AA42D73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0D00E-8306-4D15-8A76-B70FA5B7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E11D-C339-40BA-A77E-19F191FA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5286-4D67-48A0-B682-3F14E1E0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B542-30B2-4DFA-B0E5-C29A308F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CCE1-253F-44F8-824B-C9F5311B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B1DB-2588-410E-A84E-218C1839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67B2-14A3-4689-8142-1AA56322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7800C-A34A-4565-A821-93E83E51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209E3-EEFD-493B-AE74-6213A3BDC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D475-7559-4C14-9C2A-4D311DA4B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679F-28C8-4330-9469-25C6FCDF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30D5-C21D-4364-9CD9-9B7B4962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5290-DC36-4658-8486-756EEB19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4D98-346A-4666-AF2F-8E3C50AC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E14C-6B75-437B-94D5-0CCEEA5D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3B4A-8454-4FC1-A93E-DCEE76DD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E730-C6C7-416B-BFC6-0D749281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EF96-2102-497F-AF4F-A564B0DE7261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5BC1-DE57-4A0F-B79C-831A37BE4E33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5.-7.klašu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avadīšana kopā ar draugi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karsme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organizēt ci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sadarbo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liktu risinā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aust savas ide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BRĪVAJĀ LAIK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as istabas sakārt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bildības uzņem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beigt iesākto darb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ikt vienveidīgus uzdevu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ēt s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ūpīgu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IKDIENAS PIENĀKUM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MANAS INTERE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258920" y="1700280"/>
          <a:ext cx="6769080" cy="1677960"/>
        </p:xfrm>
        <a:graphic>
          <a:graphicData uri="http://schemas.openxmlformats.org/drawingml/2006/table">
            <a:tbl>
              <a:tblPr/>
              <a:tblGrid>
                <a:gridCol w="3589200"/>
                <a:gridCol w="3179880"/>
              </a:tblGrid>
              <a:tr h="1218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/uzdevum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 patī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RASMJU ANALĪZ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06320" y="1700280"/>
          <a:ext cx="7993080" cy="1555560"/>
        </p:xfrm>
        <a:graphic>
          <a:graphicData uri="http://schemas.openxmlformats.org/drawingml/2006/table">
            <a:tbl>
              <a:tblPr/>
              <a:tblGrid>
                <a:gridCol w="3218040"/>
                <a:gridCol w="2327040"/>
                <a:gridCol w="2448000"/>
              </a:tblGrid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/uzdevum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 patī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 </a:t>
                      </a:r>
                      <a:r>
                        <a:rPr b="1" lang="lv-LV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dod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713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400" spc="-1" strike="noStrike">
                <a:solidFill>
                  <a:srgbClr val="800080"/>
                </a:solidFill>
                <a:latin typeface="Calibri"/>
              </a:rPr>
              <a:t>KĀDĀS PROFESIJĀS NEPIECIEŠAMAS MANAS STIPRĀS PUSES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50920" y="1844640"/>
          <a:ext cx="8713800" cy="1890720"/>
        </p:xfrm>
        <a:graphic>
          <a:graphicData uri="http://schemas.openxmlformats.org/drawingml/2006/table">
            <a:tbl>
              <a:tblPr/>
              <a:tblGrid>
                <a:gridCol w="4357440"/>
                <a:gridCol w="4356360"/>
              </a:tblGrid>
              <a:tr h="946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stiprās pu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fesijas, kurās tās nepieciešam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ešvalodu zināšan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lks, tulkotājs, skolotājs, diplomāts, gids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Brīvdienu ceļojumi 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Dažādu materiālu sagatavošana, kam nepieciešama informācijas vākšana un atlase, kā arī secinājumu izdarīšana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Mūsdienu informācijas tehnoloģiju izmantošana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ATTĪSTĪŠU SAVAS INTERESES UN STIPRĀS P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50920" y="1700280"/>
          <a:ext cx="8640720" cy="2927160"/>
        </p:xfrm>
        <a:graphic>
          <a:graphicData uri="http://schemas.openxmlformats.org/drawingml/2006/table">
            <a:tbl>
              <a:tblPr/>
              <a:tblGrid>
                <a:gridCol w="2879640"/>
                <a:gridCol w="3600360"/>
                <a:gridCol w="216072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stiprās pu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varētu darīt, lai tās attīstī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apņemos darī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164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rbs ar dato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meklēt fakultatīvās nodarbīb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1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ziļināti apgūt darbu ar </a:t>
                      </a:r>
                      <a:r>
                        <a:rPr b="1" i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</a:t>
                      </a: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1" i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</a:t>
                      </a: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n </a:t>
                      </a:r>
                      <a:r>
                        <a:rPr b="1" i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Poi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saistīties programmēšanas konkur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1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851280" y="4508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Saprast, kāpēc, plānojot karjeru, svarīgi iepazīt se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emācīties analizēt savu ikdienas pieredzi, lai labāk apzinātos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 veidus, kā attīstīt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1452600"/>
            <a:ext cx="8686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</a:t>
            </a:r>
            <a:r>
              <a:rPr b="1" lang="de-DE" sz="2600" spc="-1" strike="noStrike">
                <a:solidFill>
                  <a:srgbClr val="1f497d"/>
                </a:solidFill>
                <a:latin typeface="Arial"/>
              </a:rPr>
              <a:t>arjeras plānošana</a:t>
            </a: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s soļ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ur un kā iegūt informāciju par sev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 analizēt ikdienas pieredz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 intereses un stiprās puses saistās ar profesijā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 attīstīt savas intereses un stiprās p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3141360"/>
            <a:ext cx="903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R SVARĪGI IEPAZĪT SEVI, </a:t>
            </a:r>
            <a:br>
              <a:rPr sz="4000"/>
            </a:b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LĀNOJOT SAVU KARJERU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Meitene.png"/>
          <p:cNvPicPr/>
          <p:nvPr/>
        </p:nvPicPr>
        <p:blipFill>
          <a:blip r:embed="rId1"/>
          <a:srcRect l="6868" t="4852" r="3846" b="2960"/>
          <a:stretch/>
        </p:blipFill>
        <p:spPr>
          <a:xfrm>
            <a:off x="4140360" y="1700280"/>
            <a:ext cx="83628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uika.png"/>
          <p:cNvPicPr/>
          <p:nvPr/>
        </p:nvPicPr>
        <p:blipFill>
          <a:blip r:embed="rId2"/>
          <a:srcRect l="6868" t="4852" r="10714" b="2960"/>
          <a:stretch/>
        </p:blipFill>
        <p:spPr>
          <a:xfrm>
            <a:off x="5148360" y="1700280"/>
            <a:ext cx="77292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uka_brille.png"/>
          <p:cNvPicPr/>
          <p:nvPr/>
        </p:nvPicPr>
        <p:blipFill>
          <a:blip r:embed="rId3"/>
          <a:srcRect l="6949" t="4852" r="2710" b="2960"/>
          <a:stretch/>
        </p:blipFill>
        <p:spPr>
          <a:xfrm>
            <a:off x="3132000" y="1700280"/>
            <a:ext cx="83664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eitene_medicina_naked.png"/>
          <p:cNvPicPr/>
          <p:nvPr/>
        </p:nvPicPr>
        <p:blipFill>
          <a:blip r:embed="rId4"/>
          <a:stretch/>
        </p:blipFill>
        <p:spPr>
          <a:xfrm>
            <a:off x="4140360" y="4694400"/>
            <a:ext cx="804600" cy="13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uika_inzenieris_naked.png"/>
          <p:cNvPicPr/>
          <p:nvPr/>
        </p:nvPicPr>
        <p:blipFill>
          <a:blip r:embed="rId5"/>
          <a:stretch/>
        </p:blipFill>
        <p:spPr>
          <a:xfrm>
            <a:off x="5135400" y="470844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uka_brille_pavars_naked.png"/>
          <p:cNvPicPr/>
          <p:nvPr/>
        </p:nvPicPr>
        <p:blipFill>
          <a:blip r:embed="rId6"/>
          <a:stretch/>
        </p:blipFill>
        <p:spPr>
          <a:xfrm>
            <a:off x="2771640" y="470844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JĀŅEM VĒRĀ, PLĀNOJOT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50920" y="1412640"/>
            <a:ext cx="820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pašizpētes grāmatas un metodikas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balances,balancing,boxes,business concepts,businesses,characters,concepts,juggles,juggling,packages,people,precarious"/>
          <p:cNvPicPr/>
          <p:nvPr/>
        </p:nvPicPr>
        <p:blipFill>
          <a:blip r:embed="rId1"/>
          <a:stretch/>
        </p:blipFill>
        <p:spPr>
          <a:xfrm>
            <a:off x="7524720" y="292428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554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LŪDZIET APKĀRTĒJIEM SNIEGT JUMS ATGRIEZENISKO SAIT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o tu uzskati par manām stiprajām pusēm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as man būt jāattīsta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dā profesijā, tavuprāt, es varētu likt lietā savas stiprās puses? 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3" name="Picture 5" descr="business concepts,businesses,characters,concepts,flowers,gifts,giving,people,presents"/>
          <p:cNvPicPr/>
          <p:nvPr/>
        </p:nvPicPr>
        <p:blipFill>
          <a:blip r:embed="rId1"/>
          <a:srcRect l="0" t="25596" r="0" b="23235"/>
          <a:stretch/>
        </p:blipFill>
        <p:spPr>
          <a:xfrm>
            <a:off x="3059280" y="4508640"/>
            <a:ext cx="32414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..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6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300720" y="350028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723960" y="1628640"/>
          <a:ext cx="7016760" cy="431496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inātnisko projektu rakstī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ācijas vākšanas un apkopošana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analizēt iegūto informāci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orprasmes (Word, Excel, Internets u.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viešu valodas pras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izitā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MĀCĪBĀ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8:19:39Z</dcterms:modified>
  <cp:revision>345</cp:revision>
  <dc:subject/>
  <dc:title>Slide 1</dc:title>
</cp:coreProperties>
</file>