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0FE3-5FB7-46A5-9529-50C93A2AEC05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036F-0267-40FD-A522-6AC8AC2EEE2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8C3B-FB1F-4A24-AF2D-AF50471C809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EB81-33AA-4C2F-8E03-2613F5489B3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96AD-2C78-4ED1-AB65-EAC0C8F497F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3629-0414-4924-9D10-0E5A850DE95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EF91-8505-4711-A09B-8377BB15C03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45A-6296-4D8C-AFF7-7D3148FF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A58-C718-4A8D-8183-8F3AC359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847D-017A-4F57-982B-C5DA05E8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8AF-E9B4-48A4-B4A2-5542730A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A7DB-952A-48B3-8DCC-B10B1D68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C651-6F60-46E8-8F1A-3E387220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412C-9D38-47B9-B590-246B1D6C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B7E8-3316-477A-9F2B-43B1864D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6CB4-2498-4F27-9673-23401CF2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BEEC-5D21-4B54-8320-94F817D0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4645-BA07-418A-97DF-125F7F33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D3E-1AD2-409A-8719-04E0FAB4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D71B-90FD-4FCE-8078-61E6B857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3E32-14E8-42D6-8331-23CCB56F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09DF-5F13-4200-AE69-49DF783D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77D5-A17C-4288-8541-A90BC29A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5DEA-C079-4334-BE97-CBB146CC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401C-28F2-4B58-BE3E-06F7554B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1B48-34B1-455F-AB1A-BA7D4459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7C4-F445-4D4C-8EE7-D3FE7459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F590-A6C4-499F-B32D-F92F2817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C111-B416-484C-A37A-DF7D6E28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F2C-370D-4ACA-90BD-EB5C7190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55C6-C3A0-41DC-9A33-80DF7951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5C1A-EBDE-458F-A557-DEC868DA718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9E2B-C600-4A34-8CE6-55F93176ED6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9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4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AS IR DARBA DEVĒJ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ējs, uzņēmuma īpaš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a valdes locekli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Vadītājs (uzņēmuma, nodaļas, filiāles)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ersonāla daļas speciālist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iCLIPART, silhouettes, women, men, people, teamwork, plannings, leaders, brainstorming, community, cooperation, lifestyle, city, business concepts, corporate"/>
          <p:cNvPicPr/>
          <p:nvPr/>
        </p:nvPicPr>
        <p:blipFill>
          <a:blip r:embed="rId1"/>
          <a:srcRect l="0" t="24131" r="0" b="8420"/>
          <a:stretch/>
        </p:blipFill>
        <p:spPr>
          <a:xfrm>
            <a:off x="2124000" y="4221000"/>
            <a:ext cx="3416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7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3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8T14:24:03Z</dcterms:modified>
  <cp:revision>346</cp:revision>
  <dc:subject/>
  <dc:title>Slide 1</dc:title>
</cp:coreProperties>
</file>