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2954-2019-4B34-A321-384DA5B55D9C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0E3A-D1FC-431C-935C-CB7C0820DC2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6077-77CB-410A-88EB-2E50B6653B3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14FF-B4CD-491F-BB1C-C51E2C0B98A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80C1-D6C1-4114-82B6-FDDF2B46975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00FD-20D3-45A7-82E3-3D1714C75E9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FAAD-592E-4E06-A6F8-947F9152E96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C3FE-94CF-4C5A-8362-A5DE4615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E582-2A0C-4C3F-879F-0E29BFF9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8E1B-F9DD-49FA-8CB7-862D7576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D2BC-15A4-446D-A963-76593B5B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3814-3CA0-42B1-B1D7-B41059F4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C766-A615-4125-BB41-7E319344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9AC6-B6C8-475F-996B-D908FD1A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B534-5A6E-4672-8555-99A89E36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D92EE-D4C6-43A1-B37D-35C7692A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5165-508C-40AC-A8D9-EFA7F0F8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876E-7540-4D0F-BEA8-3695CDB5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B292-9D4F-4385-9DCC-06D511CF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BCB9-9D30-4BBD-898E-285AD996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1D3F-4429-4863-BC59-B2EF1DA8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D15F-2952-4E16-AD8D-6A5D85C2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B6D4-10F3-4214-9162-9C1E2FCD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59C3-09CE-4C60-89E8-13093A1D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FE3E-912A-440F-AD42-15B2FAF4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0C2-E42B-4544-875A-A04D7EB1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7E50-8C61-4B64-A868-7B1CE893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62CE-C1EE-4892-988F-68BE7E61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1133-3733-4223-B654-B1F1C3EB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6A40-4163-48ED-95D3-3D7533C3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44D-212C-48C0-B045-D287F104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1720-DB7F-4F3D-949D-C82D5FD939C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86BB-830E-447C-9C43-CBA90301A72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5. -7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5:39Z</dcterms:modified>
  <cp:revision>349</cp:revision>
  <dc:subject/>
  <dc:title>Slide 1</dc:title>
</cp:coreProperties>
</file>