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8EF6-362E-4650-970F-560F4C6C80C4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3165-86C7-42A8-B9EB-D99D824745E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3EEE-2C18-4761-A1AE-19E032A2EDF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3DE0-F7DF-4567-BABD-56640C894D4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3CC0-EB79-4FCD-84BE-6AAC6ABFB70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8A78-ACA9-4F60-9E11-B1EA61EE4C6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FA85-E97E-4A46-8998-A6F8AA02717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3A5-23E5-4472-A326-ACB5B453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4A2-FD1E-468A-9F5C-099B84B9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7EF-A8E9-40C1-BF3A-9B391759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AD6-D0A2-486A-99AF-2F29EAE1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7AF8-419A-4288-9865-78AED86C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2933-7FD0-404A-93CC-C5E95BE6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0C0B-D143-4D1D-A749-F15742B9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045E-7CED-42AB-82FB-887659BB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A641-C5D0-486C-A8EB-A5D60C3F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A137-3CC9-442F-91CD-33E54B76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680A-55BB-474D-91B5-88FEF08F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030-C244-414F-B361-2BCC2280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C994-D281-4FE5-A6FA-5120F040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7C84-9F27-4FEB-AA9C-B9810754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550A-855A-4E15-85CA-E240E844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8DBF-5ADF-48D8-BB3F-6CEAE453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6065-949B-4A29-93A1-5A162AD3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D2AA-8A42-4D19-8E18-0499E532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656F-AB5A-4505-A517-2EAAF9E0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D48-B7B8-43BD-BA51-ACB968EF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AD8-CC08-445C-8ACA-29B9058E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27AD-3181-4D08-B43A-B254D9CE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D052-D4D6-4550-AD56-25F2DCC7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ADC-F78C-42C5-A825-D2F63A3B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6CC8-7D21-4774-B1A5-29C6AC4C384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75DD-BA3C-4E58-BD96-B56DDA54234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5. -7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5:39Z</dcterms:modified>
  <cp:revision>349</cp:revision>
  <dc:subject/>
  <dc:title>Slide 1</dc:title>
</cp:coreProperties>
</file>