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E35F4-326C-422C-8DF8-38CEB94B2D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B36F1-6E23-4909-BEE0-A9B962951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6F58A831-CB11-464D-81C5-007821092A2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6E8EFB76-77DA-4BEA-AD2C-5608C574776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B12E7178-B825-401D-8E24-92B839393E4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441B37E6-7DC0-4800-976C-7441DACEFAF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E7C15312-21EE-4F7C-8682-2F2BC665EBF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F25511D8-0E20-474F-A791-44C6D20A10E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27FA12CF-BE0D-442D-AD2D-9E245E9281F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18FE40A5-7613-41A4-956B-5447C573FC6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5D2F6E1C-825F-4920-9B36-BFE8498DDAF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713000-B1F2-4B63-A975-93E972DC4B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DDBDF-0024-43B3-8B19-8F8CA91E5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DCD9D-920C-47FF-9FAF-023AFEFF6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CB224C-B437-4E83-87DD-85B0AB2A688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F9F7540B-9A79-4FE3-81E7-BC7A604E8C4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EB86DDD3-6EAF-4E2E-A661-C225722C7B0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9273BF6B-694E-421C-802A-79844037FBA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C4DE60BD-E8B2-4D26-8FBA-05C6FABF5C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E67F6-6123-4618-8154-388C9E434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70C46E3F-D82B-42BA-9818-8AC0E12DC9B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667CCB34-A77A-407A-870A-974A140A0AD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146DB8C2-2E82-4512-84C0-A498365CE5D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87E93E94-006A-4C26-9EFD-599224756A4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CFAA7A3A-A9B4-44EF-A5CC-5CC11F774F0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D5AA13C4-B07F-46AD-89E2-297B593FA4E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88AD6C78-0E69-4108-B031-A231370B280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78DBB41-5863-4EDB-81A3-4B317BE41D7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7373A7FE-9D4B-41EF-9233-50EB5B282A7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4DD83A89-3771-441D-A1D6-A8BE4C5F7F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5BFDC-3B61-4AB6-A48B-2C91448BD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3136F435-D68A-488C-BC90-0B451DC5DA3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96BCE50A-7F98-4942-8F60-C38F2A0BBD1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393AC4A3-EE6A-4165-8C2C-112EF4A86CD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ECD25950-F097-42A3-8887-05E6CA1FC98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5CC0EFF8-230D-4FDC-A491-7316AA9D678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6A40F698-1933-4608-884A-12D89D40C6E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C46F3904-8E24-4EBB-8BE5-1A99EBBFF92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4EE444CC-2E59-439A-8139-23D4244799F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698D402C-077D-47B1-86F8-ED8823092BE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19E70FC-8661-4E26-ACF5-94C45970D7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A235E-32B9-4FBA-BF98-6EC7ECC81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249D6B0C-260F-4A50-B78D-D1B7F3595DA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1CA72179-226B-41ED-B5BF-9D3899D1B95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9FFD6A79-9F95-4C88-8E36-E50557704FD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3BF22218-3332-4355-909C-0391DEF43A0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7924143D-B913-4AA0-9159-602F56D985E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F76746A3-CC5A-4FA0-AA2C-8943F8615E6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9C34CB63-FF72-4CC1-9C03-7B47E2D547D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67169F99-0766-44E3-ADE5-0126655E098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2860CC6B-1B4B-48EF-953D-DA7E19BBE8C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2E48BAD9-6B0C-4B1C-8C35-D5D96453A2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44537-DD7E-4D11-8B52-5517DE4A7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A75981E5-D983-4B4A-AB0C-442FCE72843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3F3948C-AB38-46A4-BEA9-00188074285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56F63F1C-9010-4699-BD63-BF88B21D5B0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2AFBE6E6-2FA8-4A45-A517-0CBFCA691F9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9E4A3490-13FC-4550-A708-7EC903F3ADD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F371CE1D-5333-41B2-8A4F-D908398F882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C694ECAE-A632-4321-B414-6699561DB37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8EE493B1-7190-452E-9CB9-E26CB8989C7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CE280A2D-76E4-4557-9400-8D38F524FDA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FB95786C-4BD6-4F86-BDF4-9DA6F409A4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77E3D-72ED-4E93-BD50-BC9B4E9FE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6E170F3A-55D0-42BD-9066-336C5254AD5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55451E19-0DA8-4193-9494-12710EDF488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45ED17AB-004B-4F7F-827C-742C61CF278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0257744-8C82-45DA-A9EF-4F0094723E5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1B5084BA-6F54-44F3-B27E-3070ADD4E69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A8B847ED-99DE-4248-8749-CE81004686A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5332D503-38B5-415C-80F6-A07C89E57B0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AC7166C1-23DE-4858-AAFC-B097CAED8CB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8E3A483E-36B7-42B2-B4F0-A9C5D839241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C660B176-2F86-4F59-A9E5-657FD29EF7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3A68A-BF18-40C0-923A-FDE72C8E5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2A9726E8-F785-44DD-AB73-16FE23F757A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1E844E76-1DF9-4EE9-BB31-3CB649CD0C2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5FCBC987-5998-4322-9C1C-B37067B5FF9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3E10FD7A-61DC-4F91-B36F-600FA5488E5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05D010E1-57F3-4BEE-9155-D152DB2968E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8F17BAD-E98B-42BB-8648-E42F7D5A62B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4C036CF9-5129-4FA1-B2E4-6010DB7E4C5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6B1EECD2-9624-43E9-B2F7-1B2166D2D52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C5503BFA-2CF9-4C24-BB06-EFAB283BD61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8FF90D84-DC28-4964-897C-38A185C2C7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4DD9C-3D56-4565-B398-EE4354E97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D7E2A056-EB1E-41DC-BFEC-682190176B4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48AF5542-372A-4EB0-9394-CC01C7427EF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BA1E0151-282D-437B-9F89-1FAA5BD2506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707EA1D7-5264-42EF-AF3B-27312535C3E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D01DD777-FA0F-4BA0-95F4-09C34B5619D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9011EFBB-20F8-4FF8-A8B3-9D9633298B9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0B5A158A-5C8C-41BB-89F8-8492166048B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F39086E-C50C-44EA-B28A-A04C67D29B6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0B727690-F112-4D5C-8AA6-D129C93A814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C5951DF2-F0BF-4427-AA28-4B7B43A775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4440D30-F150-4969-B6D6-0D9F04DBC44E}"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E896E25-37DD-4EB9-95BE-BAC9F50DCA5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D666D80-1611-485E-BDC7-22F8C4E0ECC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4D2C746-F008-46B4-8EE2-BF783C8FF2F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84B50E8-1F97-4E9D-BEC8-689BA67194E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BBD3D8D-BD8B-47F8-95DF-3FFD192DB7A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5BFDDB7-AF4E-496E-AACB-594E9D16CF3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01A220C-43F6-4A6A-8E1B-0918A1F8945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699DCC9-04DE-47BE-9D76-8A19DCDA75B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178080"/>
            <a:ext cx="7772400" cy="14241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900" spc="-1" strike="noStrike">
                <a:solidFill>
                  <a:srgbClr val="000000"/>
                </a:solidFill>
                <a:latin typeface="Verdana"/>
                <a:ea typeface="Verdana"/>
              </a:rPr>
              <a:t>Atbalsts dalībai starptautiskās sadarbības programmās pētniecības un tehnoloģiju jomā</a:t>
            </a:r>
            <a:endParaRPr b="0" lang="en-US" sz="2900" spc="-1" strike="noStrike">
              <a:solidFill>
                <a:srgbClr val="000000"/>
              </a:solidFill>
              <a:latin typeface="Times New Roman"/>
            </a:endParaRPr>
          </a:p>
        </p:txBody>
      </p:sp>
      <p:sp>
        <p:nvSpPr>
          <p:cNvPr id="403" name="PlaceHolder 2"/>
          <p:cNvSpPr>
            <a:spLocks noGrp="1"/>
          </p:cNvSpPr>
          <p:nvPr>
            <p:ph/>
          </p:nvPr>
        </p:nvSpPr>
        <p:spPr>
          <a:xfrm>
            <a:off x="685800" y="4724280"/>
            <a:ext cx="7772400" cy="914400"/>
          </a:xfrm>
          <a:prstGeom prst="rect">
            <a:avLst/>
          </a:prstGeom>
          <a:noFill/>
          <a:ln w="0">
            <a:noFill/>
          </a:ln>
        </p:spPr>
        <p:txBody>
          <a:bodyPr lIns="93960" rIns="93960" tIns="46800" bIns="46800" anchor="t">
            <a:normAutofit/>
          </a:bodyPr>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Verdana"/>
                <a:ea typeface="Verdana"/>
              </a:rPr>
              <a:t>Maija Bundule</a:t>
            </a:r>
            <a:endParaRPr b="0" lang="en-US" sz="1400" spc="-1" strike="noStrike">
              <a:solidFill>
                <a:srgbClr val="000000"/>
              </a:solidFill>
              <a:latin typeface="Times New Roman"/>
            </a:endParaRPr>
          </a:p>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Verdana"/>
                <a:ea typeface="Verdana"/>
              </a:rPr>
              <a:t>Pētniecības Starptautisko programmu nodaļas vadītāja</a:t>
            </a:r>
            <a:endParaRPr b="0" lang="en-US" sz="1400" spc="-1" strike="noStrike">
              <a:solidFill>
                <a:srgbClr val="000000"/>
              </a:solidFill>
              <a:latin typeface="Times New Roman"/>
            </a:endParaRPr>
          </a:p>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Verdana"/>
                <a:ea typeface="Verdana"/>
              </a:rPr>
              <a:t>Valsts Izglītības attīstības aģentūra</a:t>
            </a:r>
            <a:endParaRPr b="0" lang="en-US" sz="1400" spc="-1" strike="noStrike">
              <a:solidFill>
                <a:srgbClr val="000000"/>
              </a:solidFill>
              <a:latin typeface="Times New Roman"/>
            </a:endParaRPr>
          </a:p>
        </p:txBody>
      </p:sp>
      <p:sp>
        <p:nvSpPr>
          <p:cNvPr id="404" name="PlaceHolder 3"/>
          <p:cNvSpPr>
            <a:spLocks noGrp="1"/>
          </p:cNvSpPr>
          <p:nvPr>
            <p:ph/>
          </p:nvPr>
        </p:nvSpPr>
        <p:spPr>
          <a:xfrm>
            <a:off x="685800" y="5760720"/>
            <a:ext cx="7772400" cy="6397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400" spc="-1" strike="noStrike">
              <a:solidFill>
                <a:srgbClr val="000000"/>
              </a:solidFill>
              <a:latin typeface="Verdana"/>
              <a:ea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Projekta attiecināmās izmaksas</a:t>
            </a:r>
            <a:endParaRPr b="0" lang="en-US" sz="2400" spc="-1" strike="noStrike">
              <a:solidFill>
                <a:srgbClr val="000000"/>
              </a:solidFill>
              <a:latin typeface="Times New Roman"/>
            </a:endParaRPr>
          </a:p>
        </p:txBody>
      </p:sp>
      <p:sp>
        <p:nvSpPr>
          <p:cNvPr id="446" name=""/>
          <p:cNvSpPr txBox="1"/>
          <p:nvPr/>
        </p:nvSpPr>
        <p:spPr>
          <a:xfrm>
            <a:off x="1218960" y="1752120"/>
            <a:ext cx="7467480" cy="4373640"/>
          </a:xfrm>
          <a:prstGeom prst="rect">
            <a:avLst/>
          </a:prstGeom>
          <a:noFill/>
          <a:ln w="0">
            <a:noFill/>
          </a:ln>
        </p:spPr>
        <p:txBody>
          <a:bodyPr lIns="93960" rIns="93960" tIns="46800" bIns="46800" anchor="t">
            <a:normAutofit/>
          </a:bodyPr>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a </a:t>
            </a:r>
            <a:r>
              <a:rPr b="0" lang="lv-LV" sz="1400" spc="-1" strike="noStrike" u="sng">
                <a:solidFill>
                  <a:srgbClr val="404040"/>
                </a:solidFill>
                <a:uFillTx/>
                <a:latin typeface="Verdana"/>
                <a:ea typeface="Verdana"/>
              </a:rPr>
              <a:t>tiešās izmaksas</a:t>
            </a:r>
            <a:r>
              <a:rPr b="0" lang="lv-LV" sz="1400" spc="-1" strike="noStrike">
                <a:solidFill>
                  <a:srgbClr val="404040"/>
                </a:solidFill>
                <a:latin typeface="Verdana"/>
                <a:ea typeface="Verdana"/>
              </a:rPr>
              <a:t>:</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ā nodarbinātā personāla atlīdzība saskaņā ar šādām stundas likmēm:</a:t>
            </a:r>
            <a:endParaRPr b="0" lang="en-US" sz="1400" spc="-1" strike="noStrike">
              <a:solidFill>
                <a:srgbClr val="000000"/>
              </a:solidFill>
              <a:latin typeface="Times New Roman"/>
            </a:endParaRPr>
          </a:p>
          <a:p>
            <a:pPr lvl="1" marL="382680" indent="-18252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Times New Roman"/>
                <a:ea typeface="Times New Roman"/>
              </a:rPr>
              <a:t>Projekta zinātniskajām vadītājam – līdz 20 EUR stundā;</a:t>
            </a:r>
            <a:endParaRPr b="0" lang="en-US" sz="1400" spc="-1" strike="noStrike">
              <a:solidFill>
                <a:srgbClr val="000000"/>
              </a:solidFill>
              <a:latin typeface="Times New Roman"/>
            </a:endParaRPr>
          </a:p>
          <a:p>
            <a:pPr lvl="1" marL="382680" indent="-18252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Times New Roman"/>
                <a:ea typeface="Times New Roman"/>
              </a:rPr>
              <a:t>Projekta galvenajam izpildītājam – līdz 16 EUR stundā;</a:t>
            </a:r>
            <a:endParaRPr b="0" lang="en-US" sz="1400" spc="-1" strike="noStrike">
              <a:solidFill>
                <a:srgbClr val="000000"/>
              </a:solidFill>
              <a:latin typeface="Times New Roman"/>
            </a:endParaRPr>
          </a:p>
          <a:p>
            <a:pPr lvl="1" marL="382680" indent="-18252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Times New Roman"/>
                <a:ea typeface="Times New Roman"/>
              </a:rPr>
              <a:t>Projekta izpildītājam – līdz 14 EUR stundā.</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Zinātniskā aprīkojuma un iekārtu izmaksas, ciktāl un cik ilgi tās izmanto projekta īstenošanai;</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Ēku un zemes izmaksas, ciktāl un cik ilgi tās izmanto projekta īstenošanai;</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Līgumpētījumu, konsultantu pakalpojumu izmaksas, patentu iegādes izmaksas – nepārsniedzot 25% no projekta kopējām attiecināmajām izmaksām;</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Maksa par materiāliem, inventāru un instrumentiem, ciktāl tos izmanto projektā, to iegādes un piegādes izmaksas;</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atentu vai cita rūpnieciskā īpašuma tiesību iegūšanas, apstiprināšanas un aizstāvēšanas izmaksas;</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a ārējā audita izmaksas (ja nepieciešams);</a:t>
            </a:r>
            <a:endParaRPr b="0" lang="en-US" sz="1400" spc="-1" strike="noStrike">
              <a:solidFill>
                <a:srgbClr val="000000"/>
              </a:solidFill>
              <a:latin typeface="Times New Roman"/>
            </a:endParaRPr>
          </a:p>
          <a:p>
            <a:pPr marL="90360" indent="-90360">
              <a:lnSpc>
                <a:spcPct val="80000"/>
              </a:lnSpc>
              <a:spcBef>
                <a:spcPts val="3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a </a:t>
            </a:r>
            <a:r>
              <a:rPr b="0" lang="lv-LV" sz="1400" spc="-1" strike="noStrike" u="sng">
                <a:solidFill>
                  <a:srgbClr val="404040"/>
                </a:solidFill>
                <a:uFillTx/>
                <a:latin typeface="Verdana"/>
                <a:ea typeface="Verdana"/>
              </a:rPr>
              <a:t>netiešās izmaksas</a:t>
            </a:r>
            <a:r>
              <a:rPr b="0" lang="lv-LV" sz="1400" spc="-1" strike="noStrike">
                <a:solidFill>
                  <a:srgbClr val="404040"/>
                </a:solidFill>
                <a:latin typeface="Verdana"/>
                <a:ea typeface="Verdana"/>
              </a:rPr>
              <a:t>, kas nepārsniedz 25% no projekta tiešo izmaksu summas, kurā nav ieskaitītas ārpakalpojumu izmaksas. </a:t>
            </a:r>
            <a:endParaRPr b="0" lang="en-US" sz="1400" spc="-1" strike="noStrike">
              <a:solidFill>
                <a:srgbClr val="000000"/>
              </a:solidFill>
              <a:latin typeface="Times New Roman"/>
            </a:endParaRPr>
          </a:p>
          <a:p>
            <a:pPr marL="90360" indent="-90360">
              <a:lnSpc>
                <a:spcPct val="80000"/>
              </a:lnSpc>
              <a:spcBef>
                <a:spcPts val="3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
        <p:nvSpPr>
          <p:cNvPr id="44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CCE772E-7DCD-4209-9E78-06F9A260FF3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s dalībai COST akcijā</a:t>
            </a:r>
            <a:endParaRPr b="0" lang="en-US" sz="2400" spc="-1" strike="noStrike">
              <a:solidFill>
                <a:srgbClr val="000000"/>
              </a:solidFill>
              <a:latin typeface="Times New Roman"/>
            </a:endParaRPr>
          </a:p>
        </p:txBody>
      </p:sp>
      <p:sp>
        <p:nvSpPr>
          <p:cNvPr id="451" name=""/>
          <p:cNvSpPr txBox="1"/>
          <p:nvPr/>
        </p:nvSpPr>
        <p:spPr>
          <a:xfrm>
            <a:off x="1349280" y="1752120"/>
            <a:ext cx="7337520" cy="4373640"/>
          </a:xfrm>
          <a:prstGeom prst="rect">
            <a:avLst/>
          </a:prstGeom>
          <a:noFill/>
          <a:ln w="0">
            <a:noFill/>
          </a:ln>
        </p:spPr>
        <p:txBody>
          <a:bodyPr lIns="93960" rIns="93960" tIns="46800" bIns="46800" anchor="t">
            <a:normAutofit/>
          </a:bodyPr>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Var piešķirt valsts līdzfinansējumu bet ne vairāk kā 2 200 EUR gadā (izņemot izmaksas, kas saistītas ar COST akcijas ietvaros plānoto starptautisko pasākumu organizēšanu Latvijā un to norisi) šādu izdevumu segšanai:</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1. dalībai COST akcijas vadības komitejas sanāksmēs tiem speciālistiem, kuri nav apstiprināti kā Latvijas pārstāvji akcijas vadības komitejā;</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2. dalībai COST akcijas darba grupu sēdēs;</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3. dalībai COST akcijas ietvaros organizētajos pasākumos (konferencēs, semināros un apmācības pasākumos);</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4. COST akcijas ietvaros plānotu starptautisku pasākumu norisei Latvijā; </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4. COST akcijas koordinatora funkciju izpildei, līdzfinansējot šīs aktivitātes administrēšanas izdevumus.</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45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AB4EC69-FD82-43A0-ADA0-0BDE59C117B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a regulējums</a:t>
            </a:r>
            <a:endParaRPr b="0" lang="en-US" sz="2400" spc="-1" strike="noStrike">
              <a:solidFill>
                <a:srgbClr val="000000"/>
              </a:solidFill>
              <a:latin typeface="Times New Roman"/>
            </a:endParaRPr>
          </a:p>
        </p:txBody>
      </p:sp>
      <p:sp>
        <p:nvSpPr>
          <p:cNvPr id="406" name=""/>
          <p:cNvSpPr txBox="1"/>
          <p:nvPr/>
        </p:nvSpPr>
        <p:spPr>
          <a:xfrm>
            <a:off x="2590560" y="1752120"/>
            <a:ext cx="609588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Ministru kabineta 2015.gada 26.maija noteikumi nr.259 «Atbalsta piešķiršanas kārtība dalībai starptautiskās sadarbības programmās pētniecības un tehnoloģiju jomā»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Finansējums no valsts budžeta apakšprogrammas 70.06.00 «Dalība Eiropas Savienības pētniecības un tehnoloģiju attīstības programmās»</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0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0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0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8CE56A3-ADA0-423B-958E-29E9292A2CA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u var piešķirt</a:t>
            </a:r>
            <a:endParaRPr b="0" lang="en-US" sz="2400" spc="-1" strike="noStrike">
              <a:solidFill>
                <a:srgbClr val="000000"/>
              </a:solidFill>
              <a:latin typeface="Times New Roman"/>
            </a:endParaRPr>
          </a:p>
        </p:txBody>
      </p:sp>
      <p:sp>
        <p:nvSpPr>
          <p:cNvPr id="411" name=""/>
          <p:cNvSpPr txBox="1"/>
          <p:nvPr/>
        </p:nvSpPr>
        <p:spPr>
          <a:xfrm>
            <a:off x="1584000" y="1752120"/>
            <a:ext cx="7102440" cy="4373640"/>
          </a:xfrm>
          <a:prstGeom prst="rect">
            <a:avLst/>
          </a:prstGeom>
          <a:noFill/>
          <a:ln w="0">
            <a:noFill/>
          </a:ln>
        </p:spPr>
        <p:txBody>
          <a:bodyPr lIns="93960" rIns="93960" tIns="46800" bIns="46800" anchor="t">
            <a:normAutofit/>
          </a:bodyPr>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7.Ietvara programmas projektiem; </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Pētniecības un inovāciju atbalsta programmas Apvārsnis 2020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Dalībvalsti kopīgo programmu (LESD 185.pants) projektiem; </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Kopējo tehnoloģiju ierosmju (LESD 187.pants) atbalstītajiem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700" spc="-1" strike="noStrike">
                <a:solidFill>
                  <a:srgbClr val="404040"/>
                </a:solidFill>
                <a:latin typeface="Verdana"/>
                <a:ea typeface="Verdana"/>
              </a:rPr>
              <a:t>Fusion for Energy</a:t>
            </a:r>
            <a:r>
              <a:rPr b="0" lang="lv-LV" sz="1700" spc="-1" strike="noStrike">
                <a:solidFill>
                  <a:srgbClr val="404040"/>
                </a:solidFill>
                <a:latin typeface="Verdana"/>
                <a:ea typeface="Verdana"/>
              </a:rPr>
              <a:t> (ITER projekts) kopuzņēmuma atbalstītajiem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EURATOM programmas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COST aktivitātē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ERA-NET, ERA-NET Plus un ERA-NET COFUND ietvaros atbalstītiem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tvijas dalībai ERIC </a:t>
            </a:r>
            <a:r>
              <a:rPr b="0" i="1" lang="lv-LV" sz="1700" spc="-1" strike="noStrike">
                <a:solidFill>
                  <a:srgbClr val="404040"/>
                </a:solidFill>
                <a:latin typeface="Verdana"/>
                <a:ea typeface="Verdana"/>
              </a:rPr>
              <a:t>European Social Survey </a:t>
            </a:r>
            <a:r>
              <a:rPr b="0" lang="lv-LV" sz="1700" spc="-1" strike="noStrike">
                <a:solidFill>
                  <a:srgbClr val="404040"/>
                </a:solidFill>
                <a:latin typeface="Verdana"/>
                <a:ea typeface="Verdana"/>
              </a:rPr>
              <a:t>pētījuma posmos</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tvijas dalības maksas starptautisko programmu konsorcijos, t.sk. Eiropas Akadēmiskajā tīklā GEANT, nodrošinot tam Latvijas pieslēgumu  </a:t>
            </a:r>
            <a:endParaRPr b="0" lang="en-US" sz="1700" spc="-1" strike="noStrike">
              <a:solidFill>
                <a:srgbClr val="000000"/>
              </a:solidFill>
              <a:latin typeface="Times New Roman"/>
            </a:endParaRPr>
          </a:p>
          <a:p>
            <a:pPr marL="90360" indent="-90360">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1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CDBC234-8BF0-433D-8D57-94FAAACEA29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a apmērs</a:t>
            </a:r>
            <a:endParaRPr b="0" lang="en-US" sz="2400" spc="-1" strike="noStrike">
              <a:solidFill>
                <a:srgbClr val="000000"/>
              </a:solidFill>
              <a:latin typeface="Times New Roman"/>
            </a:endParaRPr>
          </a:p>
        </p:txBody>
      </p:sp>
      <p:sp>
        <p:nvSpPr>
          <p:cNvPr id="416" name=""/>
          <p:cNvSpPr txBox="1"/>
          <p:nvPr/>
        </p:nvSpPr>
        <p:spPr>
          <a:xfrm>
            <a:off x="1436400" y="1684080"/>
            <a:ext cx="684540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saskaņā ar projekta izdevumu plānojumu;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bilstoši attiecīgās programmas nosacījumiem;</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nepārsniedz vienu miljonu EUR/gadā vienam projektam.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1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7D7FCCB-B1DF-46E3-BF6F-3298BB2C9E3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u var saņemt</a:t>
            </a:r>
            <a:endParaRPr b="0" lang="en-US" sz="2400" spc="-1" strike="noStrike">
              <a:solidFill>
                <a:srgbClr val="000000"/>
              </a:solidFill>
              <a:latin typeface="Times New Roman"/>
            </a:endParaRPr>
          </a:p>
        </p:txBody>
      </p:sp>
      <p:sp>
        <p:nvSpPr>
          <p:cNvPr id="421" name=""/>
          <p:cNvSpPr txBox="1"/>
          <p:nvPr/>
        </p:nvSpPr>
        <p:spPr>
          <a:xfrm>
            <a:off x="1463760" y="1752120"/>
            <a:ext cx="7223040" cy="4373640"/>
          </a:xfrm>
          <a:prstGeom prst="rect">
            <a:avLst/>
          </a:prstGeom>
          <a:noFill/>
          <a:ln w="0">
            <a:noFill/>
          </a:ln>
        </p:spPr>
        <p:txBody>
          <a:bodyPr lIns="93960" rIns="93960" tIns="46800" bIns="46800" anchor="t">
            <a:normAutofit/>
          </a:bodyPr>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Izglītības un zinātnes ministrijas Zinātnisko institūciju reģistrā reģistrēta zinātniskā institūcija;</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Uzņēmums (mikro, mazais, vidējais, lielais) kas reģistrēts Uzņēmumu reģistrā;</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
            </a:r>
            <a:r>
              <a:rPr b="0" lang="lv-LV" sz="2000" spc="-1" strike="noStrike">
                <a:solidFill>
                  <a:srgbClr val="000000"/>
                </a:solidFill>
                <a:latin typeface="Verdana"/>
                <a:ea typeface="Verdana"/>
              </a:rPr>
              <a:t>ja ir noslēgts līgums ar Eiropas Komisiju par projekta īstenošanu;</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
            </a:r>
            <a:r>
              <a:rPr b="0" lang="lv-LV" sz="2000" spc="-1" strike="noStrike">
                <a:solidFill>
                  <a:srgbClr val="000000"/>
                </a:solidFill>
                <a:latin typeface="Verdana"/>
                <a:ea typeface="Verdana"/>
              </a:rPr>
              <a:t>vai ja ir noslēgts projekta konsorcija līgums un līgums ar Latvijas Zinātņu akadēmiju par projekta īstenošanu;</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
            </a:r>
            <a:r>
              <a:rPr b="0" lang="lv-LV" sz="2000" spc="-1" strike="noStrike">
                <a:solidFill>
                  <a:srgbClr val="000000"/>
                </a:solidFill>
                <a:latin typeface="Verdana"/>
                <a:ea typeface="Verdana"/>
              </a:rPr>
              <a:t>vai ja ir noslēgts  projekta konsorcija līgums un tiek slēgts līgums ar Valsts izglītības attīstības aģentūru par projekta īstenošanu.</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2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179C13F-D5A4-4F52-921A-541CADA6246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2386080" y="380880"/>
            <a:ext cx="630072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Verdana"/>
                <a:ea typeface="Verdana"/>
              </a:rPr>
              <a:t>Prasības atbalsta pretendentam -1</a:t>
            </a:r>
            <a:endParaRPr b="0" lang="en-US" sz="2400" spc="-1" strike="noStrike">
              <a:solidFill>
                <a:srgbClr val="000000"/>
              </a:solidFill>
              <a:latin typeface="Times New Roman"/>
            </a:endParaRPr>
          </a:p>
        </p:txBody>
      </p:sp>
      <p:sp>
        <p:nvSpPr>
          <p:cNvPr id="426" name=""/>
          <p:cNvSpPr txBox="1"/>
          <p:nvPr/>
        </p:nvSpPr>
        <p:spPr>
          <a:xfrm>
            <a:off x="914400" y="1752120"/>
            <a:ext cx="7772400" cy="4373640"/>
          </a:xfrm>
          <a:prstGeom prst="rect">
            <a:avLst/>
          </a:prstGeom>
          <a:noFill/>
          <a:ln w="0">
            <a:noFill/>
          </a:ln>
        </p:spPr>
        <p:txBody>
          <a:bodyPr lIns="93960" rIns="93960" tIns="46800" bIns="46800" anchor="t">
            <a:normAutofit/>
          </a:bodyPr>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Atbalsta pretendentam ir noteiktas šādas prasības:</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1. tas tieši atbild par projekta sagatavošanu un izpildi;</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2. tam ir pieejami stabili un pietiekami finanšu līdzekļi, atbilstošs pētnieciskais un tehniskais personāls (laboranti un tehniķi), kā arī projekta īstenošanai nepieciešamais materiāltehniskais nodrošinājums;</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3. neattiecas neizpildīts līdzekļu atgūšanas rīkojums atbilstoši regulas Nr. 651/2014 1. panta 4. punkta "a" apakšpunktam, ja viņš pretendē uz valsts atbalstu;</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4. saskaņā ar Valsts ieņēmumu dienesta administrēto nodokļu (nodevu) parādnieku datubāzē pieejamo informāciju nav nodokļu vai nodevu parādu;</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5. tam nav ar tiesas nolēmumu pasludināts maksātnespējas process, ar tiesas nolēmumu netiek īstenots tiesiskās vai ārpustiesas tiesiskās aizsardzības process, nav uzsākta bankrota procedūra, nav piemērota sanācija vai mierizlīgums, kā arī tā saimnieciskā darbība nav izbeigta;</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6. tas nav sodīts par Latvijas Administratīvo pārkāpumu kodeksa 189.</a:t>
            </a:r>
            <a:r>
              <a:rPr b="0" lang="lv-LV" sz="1300" spc="-1" strike="noStrike" baseline="30000">
                <a:solidFill>
                  <a:srgbClr val="000000"/>
                </a:solidFill>
                <a:latin typeface="Verdana"/>
                <a:ea typeface="Verdana"/>
              </a:rPr>
              <a:t>2</a:t>
            </a:r>
            <a:r>
              <a:rPr b="0" lang="lv-LV" sz="1300" spc="-1" strike="noStrike">
                <a:solidFill>
                  <a:srgbClr val="000000"/>
                </a:solidFill>
                <a:latin typeface="Verdana"/>
                <a:ea typeface="Verdana"/>
              </a:rPr>
              <a:t> panta trešajā daļā minēto administratīvo pārkāpumu vai tam nav piemēroti piespiedu ietekmēšanas līdzekļi par Krimināllikuma 280. panta otrajā daļā minētā noziedzīgā nodarījuma izdarīšanu;</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7. ja tiek saņemts valsts atbalsts, tas nav grūtībās nonācis uzņēmums atbilstoši regulas Nr. 651/2014 2. panta 18. punktam;</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8. tas nav saņēmis vai neplāno saņemt par tām pašām projekta attiecināmajām izmaksām finansējumu no citiem Eiropas Savienības finanšu avotiem vai citiem finanšu resursiem;</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9. uzņēmums ir iesniedzis finanšu pārskatus par diviem pēdējiem noslēgtajiem saimnieciskajiem gadiem.</a:t>
            </a:r>
            <a:endParaRPr b="0" lang="en-US" sz="1300" spc="-1" strike="noStrike">
              <a:solidFill>
                <a:srgbClr val="000000"/>
              </a:solidFill>
              <a:latin typeface="Times New Roman"/>
            </a:endParaRPr>
          </a:p>
          <a:p>
            <a:pPr>
              <a:lnSpc>
                <a:spcPct val="80000"/>
              </a:lnSpc>
              <a:spcBef>
                <a:spcPts val="32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300" spc="-1" strike="noStrike">
              <a:solidFill>
                <a:srgbClr val="000000"/>
              </a:solidFill>
              <a:latin typeface="Times New Roman"/>
            </a:endParaRPr>
          </a:p>
        </p:txBody>
      </p:sp>
      <p:sp>
        <p:nvSpPr>
          <p:cNvPr id="42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6235998-CFE4-437E-A30E-D3DE79115F5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Verdana"/>
                <a:ea typeface="Verdana"/>
              </a:rPr>
              <a:t>Prasības atbalsta pretendentam-2</a:t>
            </a:r>
            <a:endParaRPr b="0" lang="en-US" sz="2400" spc="-1" strike="noStrike">
              <a:solidFill>
                <a:srgbClr val="000000"/>
              </a:solidFill>
              <a:latin typeface="Times New Roman"/>
            </a:endParaRPr>
          </a:p>
        </p:txBody>
      </p:sp>
      <p:sp>
        <p:nvSpPr>
          <p:cNvPr id="431" name=""/>
          <p:cNvSpPr txBox="1"/>
          <p:nvPr/>
        </p:nvSpPr>
        <p:spPr>
          <a:xfrm>
            <a:off x="948960" y="1752120"/>
            <a:ext cx="7737480" cy="4373640"/>
          </a:xfrm>
          <a:prstGeom prst="rect">
            <a:avLst/>
          </a:prstGeom>
          <a:noFill/>
          <a:ln w="0">
            <a:noFill/>
          </a:ln>
        </p:spPr>
        <p:txBody>
          <a:bodyPr lIns="93960" rIns="93960" tIns="46800" bIns="46800" anchor="t">
            <a:normAutofit/>
          </a:bodyPr>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13. atbalsta pretendents - pētniecības organizācija atbilstoši zinātnisko darbību reglamentējošajiem normatīvajiem aktiem ir iesniegusi Izglītības un zinātnes ministrijā publiskos pārskatus par pēdējiem diviem 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700" spc="-1" strike="noStrike">
              <a:solidFill>
                <a:srgbClr val="000000"/>
              </a:solidFill>
              <a:latin typeface="Times New Roman"/>
            </a:endParaRPr>
          </a:p>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14. ja pretendē uz valsts atbalstu, tas iesniedz informāciju par atbalsta stimulējošo ietekmi atbilstoši regulas Nr. 651/2014 6. panta 2. punktam (ja attiecināms);</a:t>
            </a:r>
            <a:endParaRPr b="0" lang="en-US" sz="1700" spc="-1" strike="noStrike">
              <a:solidFill>
                <a:srgbClr val="000000"/>
              </a:solidFill>
              <a:latin typeface="Times New Roman"/>
            </a:endParaRPr>
          </a:p>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15. atbalsta pretendents - pētniecības organizācija, saņemot valsts atbalstu, nodala saimniecisku darbību no darbības, kurai nav saimnieciska rakstura, 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700" spc="-1" strike="noStrike">
              <a:solidFill>
                <a:srgbClr val="000000"/>
              </a:solidFill>
              <a:latin typeface="Times New Roman"/>
            </a:endParaRPr>
          </a:p>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3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E3CF721-DE91-4332-B268-426AA6894D0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a intensitāte -1</a:t>
            </a:r>
            <a:endParaRPr b="0" lang="en-US" sz="2400" spc="-1" strike="noStrike">
              <a:solidFill>
                <a:srgbClr val="000000"/>
              </a:solidFill>
              <a:latin typeface="Times New Roman"/>
            </a:endParaRPr>
          </a:p>
        </p:txBody>
      </p:sp>
      <p:sp>
        <p:nvSpPr>
          <p:cNvPr id="436" name=""/>
          <p:cNvSpPr txBox="1"/>
          <p:nvPr/>
        </p:nvSpPr>
        <p:spPr>
          <a:xfrm>
            <a:off x="1131840" y="1752120"/>
            <a:ext cx="7554960" cy="4373640"/>
          </a:xfrm>
          <a:prstGeom prst="rect">
            <a:avLst/>
          </a:prstGeom>
          <a:noFill/>
          <a:ln w="0">
            <a:noFill/>
          </a:ln>
        </p:spPr>
        <p:txBody>
          <a:bodyPr lIns="93960" rIns="93960" tIns="46800" bIns="46800" anchor="t">
            <a:normAutofit/>
          </a:bodyPr>
          <a:p>
            <a:pPr>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 </a:t>
            </a:r>
            <a:r>
              <a:rPr b="0" lang="lv-LV" sz="1700" spc="-1" strike="noStrike">
                <a:solidFill>
                  <a:srgbClr val="000000"/>
                </a:solidFill>
                <a:latin typeface="Verdana"/>
                <a:ea typeface="Verdana"/>
              </a:rPr>
              <a:t>atbilstoši Eiropas Komisijas 2014.gada 14.jūnija Regulas (ES) Nr.651/2014 ar ko noteiktas atbalsta kategorijas atzītas par saderīgām ar iekšējo tirgu, piemērojot Līguma 107. un 108.pantu;</a:t>
            </a:r>
            <a:endParaRPr b="0" lang="en-US" sz="1700" spc="-1" strike="noStrike">
              <a:solidFill>
                <a:srgbClr val="000000"/>
              </a:solidFill>
              <a:latin typeface="Times New Roman"/>
            </a:endParaRPr>
          </a:p>
          <a:p>
            <a:pPr>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Atbalsta intensitāte katram atbalsta saņēmējam nepārsniedz:</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ea typeface="Times New Roman"/>
              </a:rPr>
              <a:t>fundamentāliem pētījumiem  - 100% no projekta attiecināmajām izmaksām;</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ea typeface="Times New Roman"/>
              </a:rPr>
              <a:t>Rūpnieciskajiem pētījumiem –  50% no projekta attiecināmajām izmaksām;</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ea typeface="Times New Roman"/>
              </a:rPr>
              <a:t>Eksperimentālajai izstrādei – 25%  no projekta attiecināmajām izmaksām.</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Mikro, maziem un vidējiem uzņēmumiem atbalsta intensitāte rūpniecisko pētījumu un eksperimentālās izstrādes gadījumā var tikt palielināta, bet tā nepārsniedz 80% no projekta attiecināmajām izmaksām.  </a:t>
            </a:r>
            <a:endParaRPr b="0" lang="en-US" sz="1700" spc="-1" strike="noStrike">
              <a:solidFill>
                <a:srgbClr val="000000"/>
              </a:solidFill>
              <a:latin typeface="Times New Roman"/>
            </a:endParaRPr>
          </a:p>
          <a:p>
            <a:pPr>
              <a:lnSpc>
                <a:spcPct val="9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3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73CAB19-CB9C-4BA2-A277-1AEAB68FA7E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Verdana"/>
                <a:ea typeface="Verdana"/>
              </a:rPr>
              <a:t>Atbalsta intensitāte -2</a:t>
            </a:r>
            <a:endParaRPr b="0" lang="en-US" sz="2400" spc="-1" strike="noStrike">
              <a:solidFill>
                <a:srgbClr val="000000"/>
              </a:solidFill>
              <a:latin typeface="Times New Roman"/>
            </a:endParaRPr>
          </a:p>
        </p:txBody>
      </p:sp>
      <p:sp>
        <p:nvSpPr>
          <p:cNvPr id="441" name=""/>
          <p:cNvSpPr txBox="1"/>
          <p:nvPr/>
        </p:nvSpPr>
        <p:spPr>
          <a:xfrm>
            <a:off x="1201680" y="1752120"/>
            <a:ext cx="7485120" cy="4373640"/>
          </a:xfrm>
          <a:prstGeom prst="rect">
            <a:avLst/>
          </a:prstGeom>
          <a:noFill/>
          <a:ln w="0">
            <a:noFill/>
          </a:ln>
        </p:spPr>
        <p:txBody>
          <a:bodyPr lIns="93960" rIns="93960" tIns="46800" bIns="46800" anchor="t">
            <a:normAutofit/>
          </a:bodyPr>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Valsts atbalsta intensitāti var palielināt: </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1. 10% apmērā no projekta attiecināmajām izmaksām, ja atbalstu piešķir atbalsta pretendentam, kas ir vidējais uzņēmums;</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2. 20%  apmērā no projekta attiecināmajām izmaksām, ja atbalstu piešķir atbalsta pretendentam, kas ir mazais (mikro) uzņēmums;</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3. 15%  apmērā no projekta attiecināmajām izmaksām papildus 1. vai 2.punktā norādītajam apmēram, ja:</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 projekts paredz efektīvu sadarbību kādā no šādiem gadījumiem:</a:t>
            </a:r>
            <a:endParaRPr b="0" lang="en-US" sz="1600" spc="-1" strike="noStrike">
              <a:solidFill>
                <a:srgbClr val="000000"/>
              </a:solidFill>
              <a:latin typeface="Times New Roman"/>
            </a:endParaRPr>
          </a:p>
          <a:p>
            <a:pPr lvl="1" marL="466560" indent="-285480">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 </a:t>
            </a:r>
            <a:r>
              <a:rPr b="0" lang="lv-LV" sz="1400" spc="-1" strike="noStrike">
                <a:solidFill>
                  <a:srgbClr val="000000"/>
                </a:solidFill>
                <a:latin typeface="Times New Roman"/>
                <a:ea typeface="Times New Roman"/>
              </a:rPr>
              <a:t>starp uzņēmumiem, no kuriem vismaz viens ir sīkais (mikro), mazais vai vidējais uzņēmums, </a:t>
            </a:r>
            <a:endParaRPr b="0" lang="en-US" sz="1400" spc="-1" strike="noStrike">
              <a:solidFill>
                <a:srgbClr val="000000"/>
              </a:solidFill>
              <a:latin typeface="Times New Roman"/>
            </a:endParaRPr>
          </a:p>
          <a:p>
            <a:pPr lvl="1" marL="466560" indent="-285480">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i projektu īsteno vismaz divās valstīs un neviens atsevišķs uzņēmums nesedz vairāk kā 70% no projekta attiecināmajām izmaksām;</a:t>
            </a:r>
            <a:endParaRPr b="0" lang="en-US" sz="1400" spc="-1" strike="noStrike">
              <a:solidFill>
                <a:srgbClr val="000000"/>
              </a:solidFill>
              <a:latin typeface="Times New Roman"/>
            </a:endParaRPr>
          </a:p>
          <a:p>
            <a:pPr lvl="1" marL="466560" indent="-285480">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starp uzņēmumu un vienu vai vairākām pētniecības organizācijām, kuras sedz vismaz 10% no projekta attiecināmajām izmaksām un kurām ir tiesības publicēt projektā veikto pētījumu rezultātus;</a:t>
            </a:r>
            <a:endParaRPr b="0" lang="en-US" sz="14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 projekta rezultātus izplata tehniskajās un zinātniskajās konferencēs vai publicē zinātnes vai tehnikas izdevumos, publiski pieejamās datubāzēs vai atvērtā pirmkoda programmatūras veidā.</a:t>
            </a:r>
            <a:endParaRPr b="0" lang="en-US" sz="1600" spc="-1" strike="noStrike">
              <a:solidFill>
                <a:srgbClr val="000000"/>
              </a:solidFill>
              <a:latin typeface="Times New Roman"/>
            </a:endParaRPr>
          </a:p>
          <a:p>
            <a:pPr marL="71280">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 </a:t>
            </a:r>
            <a:endParaRPr b="0" lang="en-US" sz="1600" spc="-1" strike="noStrike">
              <a:solidFill>
                <a:srgbClr val="000000"/>
              </a:solidFill>
              <a:latin typeface="Times New Roman"/>
            </a:endParaRPr>
          </a:p>
          <a:p>
            <a:pPr marL="71280">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4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C0C481A-27BD-4BED-B9BD-1291BCCD124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Maija Bundule</cp:lastModifiedBy>
  <dcterms:modified xsi:type="dcterms:W3CDTF">2016-05-12T13:53:00Z</dcterms:modified>
  <cp:revision>16</cp:revision>
  <dc:subject/>
  <dc:title>PowerPoint Presentation</dc:title>
</cp:coreProperties>
</file>