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6BE-E5D6-483D-ADAA-D36E801F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44E-BB74-43AD-9BE6-9C5A0F61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FA8589-67B2-468B-84DC-E4A9D536926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407312-F52E-45C7-8972-2D2577F4C99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9F26BD-36C5-477D-89A1-785E448BBC1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6A63DB-CB0A-4F3D-9534-21D5E2E10FB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9EFCD7-D4B6-4F32-BD4C-06198FFAA3A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5CFC03-39D8-471C-8033-2BF56B5AB4D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68F050-53D1-4B0B-9E85-D4BF1BFC2B8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0FCBB6-023B-4308-8BD0-2448D70CA39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1C9A11-3EDD-4A4A-94A8-7CC163A182B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407B-B342-4EBB-B644-9A3BFD27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9E5-CA8A-4D0C-B097-F9DDC6F1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DAB-5557-4A7F-A32E-EE0F1F2B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1CFA5-7F97-4E04-A26B-3DEB2B97D0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95162-7307-4CB4-9CDF-95C62FAB28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BEC10-C5E2-4A35-A982-C0A8266CF2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118A9-1111-4368-BBEE-EF22B0A822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BCAF9-B920-4296-964B-64891E50EA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F612-F3BE-4428-A9B9-2C4ED945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F5A38-30D8-467E-AEF2-2BC8DD9614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B19EA-0CFA-4174-AAF7-1CD9D44B6C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8C0B8-0082-4A3E-A8FD-A418CEE651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0EED1-D249-45E0-8C1E-5C8BF0BA6D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DE986-82CD-4CD2-ADE5-1D67B87568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27A3B-09EF-48AF-838F-AF41F080A4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2FCC1-AFED-4A22-9C1D-9E77C2AA185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C69AB-9EB3-4E53-B6E8-4209B00A657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D4765-AB55-4422-BD40-58FF8E8C96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C795E-4627-48E0-AEB6-91F91118F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CC9-AED6-4A8B-8020-1BA1238B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6CE44-9AAF-4CCC-92C0-58B05F00C5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02110-E8EB-4693-A05B-570BEE3B8D5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34C5D-47AB-4E4F-9341-F89F8AFD05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11F95-4EE0-45A7-B408-F7E3989FFF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694FE-48A8-4FEC-9CA5-D10C4148ED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4B408-AF80-4E96-8F68-FC907960F8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CB69D-DDA6-4CDE-9CBF-B59F717B3D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58472-DAE3-4D32-BE1D-DC97FB9125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6524A-5202-4FDE-A8F6-A8E55EA0918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0168-DAE3-4750-B510-964A31D5D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80D-AA75-4D7F-B819-F1BBDEE5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C60D-4CEE-4000-A6A3-808CD1E8332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2847-6420-4956-856D-8A454017393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527F-617B-4187-AB6F-B364CBC0DC4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1AC8-DDB8-40B8-A12B-373C52B8C8F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625D-2BAE-451F-BC84-9DCC06A103F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31D0-4770-4454-8DFB-385C984EE6F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BF56-A8BD-4ABF-9A3A-20D46EEC0F1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D643-F350-4737-A755-557F6075CC8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E36E-7265-4CFF-BC02-60E2FA4DDF3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5DBF-01D9-4775-887F-05093DF3F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8E2-FA8F-415F-A06B-17CA0E78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72E1-A90F-458F-84AD-32565126397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D40048-FB9E-49EB-BF28-F3B35B3A76B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A90AB7-FAC4-4C75-876A-14A37871F27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383AA2-1FB7-4DEA-9919-9BA99147559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7C1DBE-2BF4-4BB0-A378-02F79DF6124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F1C5E1-9664-49D5-9D3F-EF3357E8BE3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C2FFCF-98FC-4B9F-9551-F66550E3640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EC8176-BB9B-430D-B101-F46F07FDD72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42F26B-9A53-4E15-BF2E-5FE68AB9EFE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44824A-CF8F-431F-B10C-363EB16AA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956-A283-428A-8389-C6AD73DB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47E331-9918-4D3F-A212-C48456464BD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1B796C-3842-4C4D-81EF-ABEC5875275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3DCEAC-CCC0-448A-A32B-82BC8153CB9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E39DB-1A83-49E2-84A2-5556038A416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3ED24-7D96-464F-AEEE-0A3588828A6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7F6F7-AD1B-4DFE-AC6B-677E87F8CAA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AF39B-414B-497A-8EA7-AC682BED354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F4F49-55D6-4B5D-9C47-DE3398E2DC7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34545-0E30-4288-AC91-631869F5B21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0B477-07A8-4FD2-B97A-146BCC57B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1DC3-1167-4524-A448-6DA69011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63F2A-BCC6-4557-A3D3-72E35944BFC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AD0F5-172D-4CF3-8C08-4638A132420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FAAA3-3B66-46D1-885A-506AF87F319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6FFCC-6B24-4028-BF25-FD1F76E8BB1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CEE02-EBA2-4513-BCB2-22E886B2084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A3E26-D988-4340-852F-DFE2DEEED91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86309-028D-4152-9C10-6E2ADE23309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C098E-065C-4EC9-8CD7-FBF6B5987EA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B658F-9387-471B-B1C1-696BF8B2ACC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E2A86-8D36-4C1E-AE2A-8CC078F4A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FB5-0731-41E0-B165-5C0047E7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7E3B4-EF42-4125-BA01-8A8EFC3722C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AD533-8B81-412C-87D9-1E3A288BD8D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B5ED8-7997-47B2-B358-9E7E104FADF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FC7E8-18D2-422A-B42A-9823E7FE745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18DAE-DF6F-435F-A368-2395FCD8894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E3F54-42A3-4DDD-BDB1-C817D85A364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BA669-E484-410D-94EA-5B5A3CA2680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55A6B5-89F9-410F-8F73-A0945A7CABD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B84780-76D2-4B57-A1B6-00330DA84C9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86249A-00BC-49C4-9726-515375DD7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18CE689-098A-442F-9D00-CE488E66A9C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9E4B06F-6783-4E78-A9B8-39AFAD6880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3CF4A3D-3D24-40B2-91FE-3D4953C935D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008C883-8811-4B16-BB5D-8E5488F9467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589D618-2D54-44E6-A8FD-D570A252E4D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31FFBDA-48A3-44EE-9818-1652AB45632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2F7F060-72ED-4E4E-B0C2-A1AEA0AF88B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F2C7F5B-8750-42FB-80D4-2DE8FBEB760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0E30261-57C4-41C7-9906-8BA28F3B019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aija.Bundule@lza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-era.net/joint-call-2016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9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–                       2016.gada projektu konkurs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projek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733040" y="1752120"/>
            <a:ext cx="695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mērķ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ordinēt “M.ERA-Net” projekta konsorcija dalībnieku sadarbību materiālzinātņu un inženierzinātņu jomā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uzdevum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pīgu projektu konkursu organizēša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darbības laiks: 1.03.2016.-28.02.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koordinators – Austrijas Zinātnes fonds (Austrij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atviju pārstāv Valsts izglītības attīstības aģentūra, kontaktpersonas:  Dr. Maija Bundule, tel. 67785423, e-pasts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Maija.Bundule@viaa.gov.lv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DD76066-5AA5-4994-8148-FB5796CAE16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Bild 1" descr=""/>
          <p:cNvPicPr/>
          <p:nvPr/>
        </p:nvPicPr>
        <p:blipFill>
          <a:blip r:embed="rId2"/>
          <a:stretch/>
        </p:blipFill>
        <p:spPr>
          <a:xfrm>
            <a:off x="730872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46400" y="380880"/>
            <a:ext cx="64404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projekta dalībnie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14000" y="1752120"/>
            <a:ext cx="73724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 Eiropas 41 zinātni finansējoša organizācija pārstāvot 23 Eiropas valst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aivānas Zinātnes un tehnoloģija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ievijas inovācij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ienvidkorejas pētniecīb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zīlijas Izglītības un zinātne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B057F9A-AC5F-42E1-AF27-B4C3B304559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Bild 1" descr=""/>
          <p:cNvPicPr/>
          <p:nvPr/>
        </p:nvPicPr>
        <p:blipFill>
          <a:blip r:embed="rId1"/>
          <a:stretch/>
        </p:blipFill>
        <p:spPr>
          <a:xfrm>
            <a:off x="745488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776240" y="1752120"/>
            <a:ext cx="6910560" cy="3899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onkursa tematik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ed computational materials engineering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novative surfaces, coatings and interfac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igh performance synthetic and bio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ased composit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unctional material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rfaces between materials and biological hosts for health application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ls for additive manufactu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F568FAA-D929-4CC0-9F52-A0DB9B3C92B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ild 1" descr=""/>
          <p:cNvPicPr/>
          <p:nvPr/>
        </p:nvPicPr>
        <p:blipFill>
          <a:blip r:embed="rId1"/>
          <a:stretch/>
        </p:blipFill>
        <p:spPr>
          <a:xfrm>
            <a:off x="7607160" y="3348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95440" y="380880"/>
            <a:ext cx="62913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34680" y="1684080"/>
            <a:ext cx="827388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Konkursam var iesniegt projektus ar īstenošanas ilgumu līdz trīs gad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a konsorcija minimālais sastāvs: trīs dalībnieki no vismaz divām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Informācija par konkursu atrodama projekta mājas lapā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www.m-era.net/joint-call-2016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Latvijas dalībnieki var plānot projekta izdevumus līdz 70 000 EUR/gadā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Partner</a:t>
            </a:r>
            <a:r>
              <a:rPr b="1" lang="lv-LV" sz="1900" spc="-1" strike="noStrike">
                <a:solidFill>
                  <a:srgbClr val="000000"/>
                </a:solidFill>
                <a:latin typeface="Verdana"/>
                <a:ea typeface="Verdana"/>
              </a:rPr>
              <a:t>u meklēšanas instrumenti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PTeAm3 piedāvā partneru meklēšanas instrumentu interneta vietnē  https://www.nmp-partnersearch.eu/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pas Uzņēmumu tīkla (EEN, </a:t>
            </a:r>
            <a:r>
              <a:rPr b="0" i="1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prise Europe Networ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erības vietne internetā http://een.ec.europa.eu/tools/services/SearchCenter/Search/ProfileSimpleSearch?shid=32db25cb-726f-43b0-8b5f-7742d0935799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04417BB-3256-4FEB-88BD-D9E815A0F8B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Bild 1" descr=""/>
          <p:cNvPicPr/>
          <p:nvPr/>
        </p:nvPicPr>
        <p:blipFill>
          <a:blip r:embed="rId2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93760" y="1752120"/>
            <a:ext cx="74930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notiks divās kārtā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mājas lapa www.m-era.net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atvērts 2016.gada 15.mar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ideju iesniegšanas termiņš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016.gada 14.jūnij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lno projektu iesniegšanas termiņš – 2016.gada 10.novembri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ēmums par atbalstāmajiem projektiem  2017.gada 24.janvār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9997975-DDC6-4A46-B099-4212101C3EA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Bild 1" descr=""/>
          <p:cNvPicPr/>
          <p:nvPr/>
        </p:nvPicPr>
        <p:blipFill>
          <a:blip r:embed="rId1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30:05Z</dcterms:modified>
  <cp:revision>17</cp:revision>
  <dc:subject/>
  <dc:title>PowerPoint Presentation</dc:title>
</cp:coreProperties>
</file>