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247-7967-47C8-9FA4-4A673B20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005-0A01-42C0-A20A-A7AECF91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3ABF5F-2DA1-4F2F-B481-7FCE406E1FE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A7B67F-3402-40A0-9D05-84032A5355A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BCF2D1-14E2-4E54-B280-E2B37348692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C6AE3A-314C-4306-AD44-F482462EC07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453A7F-19C1-4938-9952-86F2B16236D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E6D04-0C39-46C2-884E-79DD8FF5909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9A23C-15FD-4CA3-B36A-7850164E997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92A691-7899-486E-A863-90EEA2DDDF7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E4644-FAEB-48AF-8E7D-024FFC3A89B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F6C-51D4-4284-91F2-3F6707C3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B0B-4FF8-4A7C-AC8A-AEE9B3A9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239-C85C-48A1-8C73-A23AA506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1200E-C766-4994-A06C-246E05A0A0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9A18F-A0E6-46F5-ACB3-255FB93871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00FCC-CD30-4B48-9E24-4CA4C1FAE1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05930-DC5E-46D4-AEDA-F253D1D70F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A24FE-CEA4-4548-9965-AE395061D0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A71-A12C-46B7-9035-42E08007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142C0-7F2D-4A3B-9FC9-B23B5ECF58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30268-537B-46FE-8AF0-3BD93B4AA6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CBEF0-72DC-428C-BA37-1D0A0E4191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DB191-4E14-4744-A2E2-86C8B8614A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4BCCE-DD4D-485C-9AFE-26999B1928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D9B47-D1AC-48EE-A21D-59D74BD11E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8D36B-27F7-4A6A-BEA5-73FAF072E1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9D663-0452-4A39-82F8-0D5D9A3031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2A03D-EF10-4E7D-BB39-82AF90BEA63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ECD86-DE68-4265-91D1-036B84744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CBB-DC9A-4901-A819-717C8067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65173-83DA-47BD-A1B3-8F27DE51D2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00BE4-1DA4-470E-9CC1-432D87CD92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36191-C465-4678-91D3-A736780F50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8B405-9263-4ED9-B965-652185FA78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8FDE7-2720-43AF-A168-987E965DF4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24522-1EC6-4DC0-A809-B8C497F7D0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5222A-76B5-46F7-B221-B3DE95753B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DB6C4-36CE-40FB-8A92-5387272147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DC2FF-8CF6-44D0-859C-3B47C2B084A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D283-6894-4120-A99D-79D805456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4E4-322A-48F6-86C2-2C891A0B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EF6B-A641-465B-B159-E7C6CA0EED2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261A-F918-409D-9431-BB55707237F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22C6-8BD2-45E9-9D3B-7BC8BC010FE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D032-F463-4C59-806E-D840489F034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17DB-7852-4A47-9550-68005CF952F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3C37-BA85-4193-B670-3A4249170D2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5694-42E8-46B8-9CD1-EF78869A8E3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CDA6-A06F-4C7B-B9CB-B2D609C8FCC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7ADD-DE82-4EAE-B0D0-9045D7F2543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0C5F-159F-451C-BEC4-7D7C9AC68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8E5-6F7F-47ED-A83D-1D87DEBF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B40D-BC6C-4CFD-92FB-7DA1ECF7F6D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7E3ED7-7C33-4963-888D-D3DF8FBF98D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8C1042-061E-46D6-952E-856132B9B94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2A599B-664A-4ACE-A03E-229E0B7EBA9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4B9B91-2736-40D6-AEBE-F0DD56B23F3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58DC2A-3189-4BEC-B463-1FB4D63B857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1F61E-2563-477A-9785-DAC4AB2B01D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9CB250-D90B-4CA8-8261-4782A6E68A7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E4AA6-5F1F-4649-902F-6CFCE9F7340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5D74B-E5FC-4E32-895F-A439756B1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E56-E4B1-413F-871B-753E76F2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518A3-37D4-4E1D-945F-30B540DE7E9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A56095-747E-402D-9EDE-33BD49A6C4E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FAEE4C-9200-4398-B961-59A1F5EFB79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8EF4A-20EB-4606-A024-7FD777FEF0D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F8A66-0040-4E5E-9BA5-27E86955432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FAA16-20F6-42C7-8CFC-41EA9B95B46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B608B-5639-48F0-952B-5A3AB9FE1DB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4AEF1-7368-4DA6-895E-029B3AC0E29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09F41-18B8-4798-9613-2CA8E765291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87D22-FBA2-4DC5-9272-3586D8C3E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3A1-8424-4408-B1D9-65E62F83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AA329-895B-458D-B2F2-4B88B97C745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4CF22-16B6-4BF0-A9F2-7D611BCBFE7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81178-7B86-4008-848E-3CD7D0BBB4C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8B28C-4B6E-4A5E-A89C-A3180E88789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8812A-DFA1-43EF-85EC-1529915A962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3667A-654B-4F02-8A9F-0387741AC09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7657-9417-4ECF-B76E-EBB1466D7FB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4DA0E-19C7-45DE-AA4D-D11961A2C70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F9155-C1EE-43EF-B2F5-19E98CB824B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8733-6746-4B47-88B1-AEFAB3527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79E-9CC1-493A-8D8A-401135D1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E6A4A-88A3-4EB8-80A8-70F0E72B9A4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A25B4-1FF1-45FB-889E-76404047B61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2189F-EDB0-4B13-B7E5-A81958B4C95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B83A-55A9-408E-BA9D-666E6690405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0DC6-59ED-4E42-B233-333AC68D24C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2C725-70C0-4D02-B68F-1A43485E0BE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7B1D-7E15-4D82-A9A9-1A4F2879B9A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70CB89-773D-4A6A-8631-0D994FB2831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D144C7-52E1-4E87-9F57-B7664A03CE9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B7E5BF-2AFE-4289-9B01-F0D18B172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9F2E33-2E09-486C-BF00-3106996C6F9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3279B2F-482E-4EF7-98FA-62EBE28D6C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C9E16C1-19AB-41E8-9158-FE4945D2DF0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5D43B0B-44FD-4F18-A5A5-E33002C850A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93D034B-6850-4372-8B2B-9B37280D557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AB1E40-6809-4353-910E-1969333C271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D704323-67A5-464D-A8E3-5EB4BCFF2D2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5654A5-FDD1-41AE-975A-4056F03F06F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854831-DBE2-4836-820A-FDCE5DA3985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aija.Bundule@lza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-era.net/joint-call-2016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9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–                       2016.gada projektu konkurs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projek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33040" y="1752120"/>
            <a:ext cx="695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mērķ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ordinēt “M.ERA-Net” projekta konsorcija dalībnieku sadarbību materiālzinātņu un inženierzinātņu jom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uzdevum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pīgu projektu konkursu organizēš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darbības laiks: 1.03.2016.-28.02.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koordinators – Austrijas Zinātnes fonds (Austrij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atviju pārstāv Valsts izglītības attīstības aģentūra, kontaktpersonas:  Dr. Maija Bundule, tel. 67785423, e-pasts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Maija.Bundule@viaa.gov.lv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A40746-FCDA-410C-B973-2C62FD120CD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Bild 1" descr=""/>
          <p:cNvPicPr/>
          <p:nvPr/>
        </p:nvPicPr>
        <p:blipFill>
          <a:blip r:embed="rId2"/>
          <a:stretch/>
        </p:blipFill>
        <p:spPr>
          <a:xfrm>
            <a:off x="730872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46400" y="380880"/>
            <a:ext cx="64404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projekta dalīb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14000" y="1752120"/>
            <a:ext cx="73724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 Eiropas 41 zinātni finansējoša organizācija pārstāvot 23 Eiropas valst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aivānas Zinātnes un tehnoloģija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ievijas inovācij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envidkorejas pētniecīb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zīlijas Izglītības un zinātne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785584-126D-4B39-BDA7-15C70FF383D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Bild 1" descr=""/>
          <p:cNvPicPr/>
          <p:nvPr/>
        </p:nvPicPr>
        <p:blipFill>
          <a:blip r:embed="rId1"/>
          <a:stretch/>
        </p:blipFill>
        <p:spPr>
          <a:xfrm>
            <a:off x="745488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76240" y="1752120"/>
            <a:ext cx="6910560" cy="389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onkursa tematik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ed computational materials engineering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novative surfaces, coatings and interfac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igh performance synthetic and bi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ased composit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unctional material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faces between materials and biological hosts for health application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s for additive manufactu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8032CB-0E01-4A61-A32F-5954D24178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ild 1" descr=""/>
          <p:cNvPicPr/>
          <p:nvPr/>
        </p:nvPicPr>
        <p:blipFill>
          <a:blip r:embed="rId1"/>
          <a:stretch/>
        </p:blipFill>
        <p:spPr>
          <a:xfrm>
            <a:off x="7607160" y="3348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95440" y="380880"/>
            <a:ext cx="62913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34680" y="1684080"/>
            <a:ext cx="827388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Konkursam var iesniegt projektus ar īstenošanas ilgumu līdz trīs gad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a konsorcija minimālais sastāvs: trīs dalībnieki no vismaz divām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Informācija par konkursu atrodama projekta mājas lapā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www.m-era.net/joint-call-2016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Latvijas dalībnieki var plānot projekta izdevumus līdz 70 000 EUR/gadā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Partner</a:t>
            </a:r>
            <a:r>
              <a:rPr b="1" lang="lv-LV" sz="1900" spc="-1" strike="noStrike">
                <a:solidFill>
                  <a:srgbClr val="000000"/>
                </a:solidFill>
                <a:latin typeface="Verdana"/>
                <a:ea typeface="Verdana"/>
              </a:rPr>
              <a:t>u meklēšanas instrumenti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PTeAm3 piedāvā partneru meklēšanas instrumentu interneta vietnē  https://www.nmp-partnersearch.eu/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pas Uzņēmumu tīkla (EEN, </a:t>
            </a:r>
            <a:r>
              <a:rPr b="0" i="1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prise Europe Networ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ības vietne internetā http://een.ec.europa.eu/tools/services/SearchCenter/Search/ProfileSimpleSearch?shid=32db25cb-726f-43b0-8b5f-7742d0935799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174BDBD-CEC5-40B5-A2C4-190DA08B45E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Bild 1" descr=""/>
          <p:cNvPicPr/>
          <p:nvPr/>
        </p:nvPicPr>
        <p:blipFill>
          <a:blip r:embed="rId2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93760" y="1752120"/>
            <a:ext cx="7493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notiks divās kārtā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mājas lapa www.m-era.ne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atvērts 2016.gada 15.m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ideju iesniegšanas termiņš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016.gada 14.jūnij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lno projektu iesniegšanas termiņš – 2016.gada 10.novembr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ēmums par atbalstāmajiem projektiem  2017.gada 24.janvār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A190E0-1ED1-425C-993A-095DD5EC0F2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Bild 1" descr=""/>
          <p:cNvPicPr/>
          <p:nvPr/>
        </p:nvPicPr>
        <p:blipFill>
          <a:blip r:embed="rId1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30:05Z</dcterms:modified>
  <cp:revision>17</cp:revision>
  <dc:subject/>
  <dc:title>PowerPoint Presentation</dc:title>
</cp:coreProperties>
</file>