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3494-FB98-4172-856B-8F038474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3055-533A-401C-87D6-BCDD576F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064494-DE4E-4AE3-92F0-C9DC6BB55B3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35416D-5BC4-44C8-8110-DAD5B7D0AF6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776FE2-0085-41E0-ACF7-67117644A63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7D7895-CE83-441D-BD3E-2C52BBB3FEF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B1E322-E4E7-49D4-BAC8-DFE492E0019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3E3965-CC6B-4DFF-8458-6B438FE6149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04A8F3-FF4D-4C7B-9492-8FF46ABF9F0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4D5435-9936-4E42-ADC9-5E5DBD5995A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0E16F3-5B01-40BB-B687-457526F5E23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9B8E-5DB0-4470-B32A-4958B38C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7EE6-19BF-42AE-A8E1-015E83C9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E3ED-CB51-4823-8287-A96D1F4F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9C0C3-DC5B-4C59-89B0-830AD42683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24D30-6076-419E-BE39-1683426155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41E0A-1A52-481F-ADB8-EDBCA8898D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990BA-5EBE-4B44-8F45-EBBE80F8E2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8E8DE-EBE8-47EC-AB3A-081F587D52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137-828E-4D55-BF80-F59D89A9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6CC11-53EA-440B-A058-1B02D72627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B7C80-769A-4019-B395-E77A99471C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E6A28-0BCB-44A5-8EDC-09DCCBD10D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EABA2-E269-4FB2-8A25-98DE8638F2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44371-E35A-41E4-A4C4-FED588125C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6D2AD-23D7-441C-BF53-C832DEC9ED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22C1B-0B89-42F8-AD5D-BEA6D90952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B0C2E-093D-4C78-AE49-7E0B52DD35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424A4-0D0B-401E-A7B5-BA87C00BF6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1628B-2800-4BEC-9D25-11DF502BE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1A0-C6F2-4542-963B-38E2B51D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1986A-FD04-4952-8DE5-3345B9C7F3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23915-B2D3-4A27-A66F-5D6594EDCD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2F76B-873B-4CF0-9F62-E27732ED54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437DD-D1F1-4CCB-A72A-E2E4E7C036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3205F-8858-4655-A817-E0E340FDFF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2C0DF-17B7-4725-ADEC-7940BFD7F48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A0FCD-3AFD-4645-B1BD-BE5BDB02790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8A689-1158-44FA-AAFB-E8A6C76E69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E40EC-4D8E-4696-B096-616EF24AD43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4BB3-3F5C-4525-BA2A-3E7B669EF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7C58-711C-4251-BB4B-7C6A1803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B39B-15B5-4C6B-BEF6-491B6EA578B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A0CC-EEE5-4CD7-9726-975D086CA3F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0A8F-83C1-45A1-AFB2-21B0C49C114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A9AE-7384-4487-B292-FF48DF2D1C2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3D39-0C20-426C-956B-87375B7FCDF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F7B2-05D2-4C28-95D8-CF445D5790E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29AB-82B3-43F2-B42C-63BB20AD373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F681-86FF-441D-A8F8-6C83002D8D2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F9C2-24B4-4F0C-99E6-9EAEFC5AFAB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1CBF-D0DA-47D5-A960-019FCE930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2C6-5D44-48A0-850A-36A47AA8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E55E-17B4-43F2-9518-9548D87610D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064B98-1C7B-43A9-AC64-4C81D29C053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8461D6-430C-4358-8DE5-90B50C25C71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273188-CFB5-4A4D-9609-2488F3DCC0D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C5A930-E6C7-4FD2-81D8-BFFE2C6D3DB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8FE48C-95A6-48CB-A056-6A91EE51801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D912CE-C162-4746-9BB9-B8600263EDE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47FE9D-CC5A-49B7-BCFC-966F11CD04E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167096-CD21-4277-89BE-FFEC2463523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86F7D4-4802-452D-A564-2DBDD1BA1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728-44D2-4C16-B1BD-12C71168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65F951-D1F5-4569-A9F9-1B384B0F004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1062D7-38B3-4BC8-98DA-2155984AF61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A013FE-DE47-4B2A-A39D-31CBADF197F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4398E-509D-4DA6-B474-197C968A49D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8D7BD-F8A1-4E33-BE9D-AB021160887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AF19C-BF2F-4EA4-BE45-D9273827D59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8579D-8FD8-4632-B5B1-7B22929B76D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904A0-01D4-4973-ABB2-9390071A851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BFDF3-037D-4D55-9ECB-EA44224F72E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A404C-F5C6-4C9D-93C2-990D6F065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6B0-EB1F-4DD0-B078-FA6C81B4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F00D9-2A80-488A-A17F-AF780DB2A7D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A376D-D317-46CA-ACCD-D47FD224E94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76FE9-1CDD-4377-BBBB-5F192CD5AA5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69B91-C788-4766-BFAD-38862175147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3651A-2CA0-4FA2-BB60-62B3AA91E3A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55A97-60DA-4C83-9E10-9A6C5D9FCDA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EC890-6CF7-4DBF-89CE-921FBB8EE81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75452-BD74-45B6-B6EF-538525066A3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EFDDA-3C24-4E95-99BF-7862D134323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9F6E5-D6EF-437C-9640-F3C387C60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4FB7-8D63-40B6-A254-433DE85A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05636-8C58-407C-A7F1-747AAA42640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89EB5-4D1C-440B-B8C1-0CD1980F6F6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11BD0-D500-41D2-AD65-19D708507B8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008FE-1BAC-4769-8C7B-B491E13733E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B586B-B76E-4239-8610-9D4FF7D1722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76BB5-4086-4D8B-9B59-FF308D3FFBA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4A39E-8C8F-4A8A-B0A2-26B741FC2C1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298A7D-2659-4280-A2AD-95DC5F28A6E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F86982-764C-4EA4-B57C-ECDAD611379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FF7EAB-CE39-41F7-BD49-981E83E6A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D562BA8-D223-4949-A683-1C75D5B26F7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FA98942-BF68-43CF-AC3B-3C3705DD36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F095432-943C-4000-83D2-8842A363CA1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50491B0-3079-4B57-A3B5-A4C133FA039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4F9933C-ECD5-43BE-BF97-D910D62839E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1C5D916-5E65-40B7-98EE-F1BF6567EA6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178D4E0-C311-446D-93BD-EC233F4F593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2CB900A-F358-4C22-8F48-B745B588A5A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8E4D94D-724A-4598-AD29-53ABA05B995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programma 20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s mērķ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698480" y="1752120"/>
            <a:ext cx="6988320" cy="3699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programmas mērķis ir sekmēt starptautisko sadarbību zinātnē un inovācij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ot konkurētspējīgu projektu pieteikumu izstrād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paši atbalstot sadarbību starp Baltijas valstu zinātnieki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ļēji kompensējot projektu pieteikumu izstrādes izdevu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D475C4E-0609-4291-9255-110D2F3DF2F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003040" y="1752120"/>
            <a:ext cx="668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rogramm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ievieš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Valsts izglītības attīstības aģentūras Zinātnes, pētniecības un inovācijas politikas atbalsta departamenta Pētniecības starptautisko programmu nodaļ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Lēmumu</a:t>
            </a:r>
            <a:r>
              <a:rPr b="0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ar finansiāla atbalsta piešķiršan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ieņem</a:t>
            </a:r>
            <a:r>
              <a:rPr b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misija, kuras sastāvu veido Izglītības un zinātnes ministrijas, Valsts izglītības attīstības aģentūras, Latvijas Zinātnes padomes un Latvijas investīciju un attīstības aģentūras pārstāvj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6C6DF8D-108A-438C-A5FE-2443DCCC1BF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as var saņemt atbal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793520" y="1752120"/>
            <a:ext cx="689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Zinātnisko institūciju reģistrā reģistrēta zinātniskā institūcija vai mazais un vidējais uzņēmu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projekta izstrādi, kas iesniegts 2014., 2015. vai 2016.gada projektu konkursā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m ekspertu dotā novērtējuma skaitliskā vērtība ir sasniegusi nepieciešamo sliekšņa vērtīb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753A6EF-9DF9-4432-BB2E-AFE5055ECAF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Atbalstu var saņemt p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11200" y="1752480"/>
            <a:ext cx="7275600" cy="3611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Apvārsnis 2020 inovācij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ATOM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OSTARS 2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ONUS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CSEL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IMI 2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Clean Sky 2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io-Based Industrie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RA-NET aktivitātes ietvaros iesniegtu projektu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3279FA-F566-49C1-B82A-55B95FDEB54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Atbalstu nevar saņ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046240" y="1752120"/>
            <a:ext cx="66405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tādu projektu, kura izstrādei ir piešķirts finansējums no Eiropas Struktūrfondu darbības programmas "Uzņēmējdarbība un inovācijas" papildinājuma 2.1.1.2. aktivitātes "Atbalsts starptautiskās sadarbības projektiem zinātnē un tehnoloģijās" resursi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CDA58C5-453E-4D27-9D78-DA1FA65AAF3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Lai saņemtu atbals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523520" y="1752120"/>
            <a:ext cx="716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s pretendents VIAA lietvedībā iesniedz iesniegumu (iesnieguma veidlapa pieejama internetā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strādātā projekta sadaļas, kurā ir norādīti projekta dalībnieki, kopij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drukas n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Research Participant Portal 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vietnes vai citu dokumentāciju, kas satur informāciju p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iesniegšanas laik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a pretendenta budžeta apjo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novērtēju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komersanta uzskaites  veidlapu par saņemt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de minimis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u (ja attiecinām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16048D6-E373-40BC-8FA8-A50AC9D9129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D80A3ED-103F-431B-9A12-2EC168DB779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tretch/>
        </p:blipFill>
        <p:spPr>
          <a:xfrm>
            <a:off x="1889280" y="606600"/>
            <a:ext cx="71467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ontakti un informā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06560" y="1752120"/>
            <a:ext cx="67802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lsts izglītības attīstības aģentū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ļņu iela 1, Rīga, LV-1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Kontaktpersona – Lelde Vale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E.pasts: lelde.valeine@viaa.gov.lv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Tel. 677854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nformācija par </a:t>
            </a:r>
            <a:r>
              <a:rPr b="0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2015 programmu un  iesnieguma veidlapa ir pieejama internetā www.viaa.gov.lv/lat/zinatnes_inovacijas_progr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302096E-C95E-4299-98C3-F61F7912044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04:19Z</dcterms:modified>
  <cp:revision>16</cp:revision>
  <dc:subject/>
  <dc:title>PowerPoint Presentation</dc:title>
</cp:coreProperties>
</file>